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jpeg" ContentType="image/jpeg"/>
  <Override PartName="/ppt/media/image49.wmf" ContentType="image/x-wmf"/>
  <Override PartName="/ppt/media/image48.png" ContentType="image/png"/>
  <Override PartName="/ppt/media/image47.wmf" ContentType="image/x-wmf"/>
  <Override PartName="/ppt/media/image13.jpeg" ContentType="image/jpeg"/>
  <Override PartName="/ppt/media/image46.jpeg" ContentType="image/jpeg"/>
  <Override PartName="/ppt/media/image44.jpeg" ContentType="image/jpeg"/>
  <Override PartName="/ppt/media/image43.wmf" ContentType="image/x-wmf"/>
  <Override PartName="/ppt/media/image9.png" ContentType="image/png"/>
  <Override PartName="/ppt/media/image39.wmf" ContentType="image/x-wmf"/>
  <Override PartName="/ppt/media/image37.wmf" ContentType="image/x-wmf"/>
  <Override PartName="/ppt/media/image12.jpeg" ContentType="image/jpe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27.png" ContentType="image/png"/>
  <Override PartName="/ppt/media/image33.jpeg" ContentType="image/jpeg"/>
  <Override PartName="/ppt/media/image11.jpeg" ContentType="image/jpeg"/>
  <Override PartName="/ppt/media/image24.png" ContentType="image/png"/>
  <Override PartName="/ppt/media/image64.wmf" ContentType="image/x-wmf"/>
  <Override PartName="/ppt/media/image68.gif" ContentType="image/gif"/>
  <Override PartName="/ppt/media/image19.jpeg" ContentType="image/jpeg"/>
  <Override PartName="/ppt/media/image25.png" ContentType="image/png"/>
  <Override PartName="/ppt/media/image69.gif" ContentType="image/gif"/>
  <Override PartName="/ppt/media/image6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34.jpeg" ContentType="image/jpeg"/>
  <Override PartName="/ppt/media/image40.wmf" ContentType="image/x-wmf"/>
  <Override PartName="/ppt/media/image21.jpeg" ContentType="image/jpeg"/>
  <Override PartName="/ppt/media/image29.png" ContentType="image/png"/>
  <Override PartName="/ppt/media/image59.gif" ContentType="image/gif"/>
  <Override PartName="/ppt/media/image18.jpeg" ContentType="image/jpeg"/>
  <Override PartName="/ppt/media/image60.gif" ContentType="image/gif"/>
  <Override PartName="/ppt/media/image61.jpeg" ContentType="image/jpeg"/>
  <Override PartName="/ppt/media/image79.wmf" ContentType="image/x-wmf"/>
  <Override PartName="/ppt/media/image76.wmf" ContentType="image/x-wmf"/>
  <Override PartName="/ppt/media/image73.gif" ContentType="image/gif"/>
  <Override PartName="/ppt/media/image41.jpeg" ContentType="image/jpeg"/>
  <Override PartName="/ppt/media/image14.jpeg" ContentType="image/jpeg"/>
  <Override PartName="/ppt/media/image54.png" ContentType="image/png"/>
  <Override PartName="/ppt/media/image74.wmf" ContentType="image/x-wmf"/>
  <Override PartName="/ppt/media/image4.png" ContentType="image/png"/>
  <Override PartName="/ppt/media/image62.wmf" ContentType="image/x-wmf"/>
  <Override PartName="/ppt/media/image66.gif" ContentType="image/gif"/>
  <Override PartName="/ppt/media/image72.wmf" ContentType="image/x-wmf"/>
  <Override PartName="/ppt/media/image70.png" ContentType="image/png"/>
  <Override PartName="/ppt/media/image38.jpeg" ContentType="image/jpeg"/>
  <Override PartName="/ppt/media/image67.wmf" ContentType="image/x-wmf"/>
  <Override PartName="/ppt/media/image15.jpeg" ContentType="image/jpeg"/>
  <Override PartName="/ppt/media/image63.wmf" ContentType="image/x-wmf"/>
  <Override PartName="/ppt/media/image78.wmf" ContentType="image/x-wmf"/>
  <Override PartName="/ppt/media/image36.jpeg" ContentType="image/jpeg"/>
  <Override PartName="/ppt/media/image57.png" ContentType="image/png"/>
  <Override PartName="/ppt/media/chimes.wav" ContentType="audio/x-wav"/>
  <Override PartName="/ppt/media/image17.jpeg" ContentType="image/jpeg"/>
  <Override PartName="/ppt/media/image45.wmf" ContentType="image/x-wmf"/>
  <Override PartName="/ppt/media/image3.png" ContentType="image/png"/>
  <Override PartName="/ppt/media/image5.jpeg" ContentType="image/jpeg"/>
  <Override PartName="/ppt/media/image8.jpeg" ContentType="image/jpeg"/>
  <Override PartName="/ppt/media/image26.png" ContentType="image/png"/>
  <Override PartName="/ppt/media/image10.jpeg" ContentType="image/jpeg"/>
  <Override PartName="/ppt/media/image58.gif" ContentType="image/gif"/>
  <Override PartName="/ppt/media/image71.png" ContentType="image/png"/>
  <Override PartName="/ppt/media/image6.jpeg" ContentType="image/jpeg"/>
  <Override PartName="/ppt/media/image22.jpeg" ContentType="image/jpeg"/>
  <Override PartName="/ppt/media/image75.png" ContentType="image/png"/>
  <Override PartName="/ppt/media/image42.wmf" ContentType="image/x-wmf"/>
  <Override PartName="/ppt/media/image23.jpeg" ContentType="image/jpeg"/>
  <Override PartName="/ppt/media/image1.jpeg" ContentType="image/jpeg"/>
  <Override PartName="/ppt/media/image35.jpeg" ContentType="image/jpeg"/>
  <Override PartName="/ppt/media/image28.png" ContentType="image/png"/>
  <Override PartName="/ppt/media/image50.wmf" ContentType="image/x-wmf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ADD-D7DD-4FFC-81F7-8D16B502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8FE-AACF-4596-B15B-6570B739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191-72F8-4E2D-AC97-2101CBD1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061-DAFB-4925-BA30-13F8411F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9E1-6510-4603-84FC-1DA202FE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CBD-F077-4772-97B6-5458CF46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DCD-5B14-42B2-A252-36CFD9BF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38B-5FFB-4EF1-A0F8-57CB2A7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BAD-4644-4883-9798-7DE99C79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10F-A7F3-4984-AF59-9C3293DD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6A1-A7FB-4DB0-8B0A-F7EA478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BE5-E00D-47EC-924D-0657BD4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8BAE-2954-4309-A3DC-B00C4C56DF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5.wmf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" Target="slide3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6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59.gif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58.gif"/><Relationship Id="rId3" Type="http://schemas.openxmlformats.org/officeDocument/2006/relationships/image" Target="../media/image66.gi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image" Target="../media/image67.wmf"/><Relationship Id="rId3" Type="http://schemas.openxmlformats.org/officeDocument/2006/relationships/image" Target="../media/image68.gif"/><Relationship Id="rId4" Type="http://schemas.openxmlformats.org/officeDocument/2006/relationships/image" Target="../media/image69.gif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2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2.wmf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3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2.wmf"/><Relationship Id="rId3" Type="http://schemas.openxmlformats.org/officeDocument/2006/relationships/image" Target="../media/image72.wmf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61.jpeg"/><Relationship Id="rId3" Type="http://schemas.openxmlformats.org/officeDocument/2006/relationships/image" Target="../media/image62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6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4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" Target="slide8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7.png"/><Relationship Id="rId3" Type="http://schemas.openxmlformats.org/officeDocument/2006/relationships/image" Target="../media/image16.jpeg"/><Relationship Id="rId4" Type="http://schemas.openxmlformats.org/officeDocument/2006/relationships/image" Target="../media/image32.png"/><Relationship Id="rId5" Type="http://schemas.openxmlformats.org/officeDocument/2006/relationships/image" Target="../media/image20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9.wmf"/><Relationship Id="rId3" Type="http://schemas.openxmlformats.org/officeDocument/2006/relationships/slide" Target="slide58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90920" y="19051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走进生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743200" y="2590920"/>
            <a:ext cx="2592360" cy="2665440"/>
          </a:xfrm>
          <a:prstGeom prst="ellipse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7240" y="3890880"/>
            <a:ext cx="424980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60680" y="2306520"/>
            <a:ext cx="3095640" cy="316872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487600" y="2449440"/>
            <a:ext cx="3095640" cy="3097440"/>
          </a:xfrm>
          <a:prstGeom prst="line">
            <a:avLst/>
          </a:prstGeom>
          <a:ln w="7632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9600" y="1946160"/>
            <a:ext cx="1729080" cy="3961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9240" y="2017800"/>
            <a:ext cx="1729080" cy="3744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415960" y="3098880"/>
            <a:ext cx="3671640" cy="1511280"/>
          </a:xfrm>
          <a:prstGeom prst="line">
            <a:avLst/>
          </a:prstGeom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5960" y="3025800"/>
            <a:ext cx="4032000" cy="1657440"/>
          </a:xfrm>
          <a:prstGeom prst="line">
            <a:avLst/>
          </a:prstGeom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990720"/>
            <a:ext cx="70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猜猜看，圆有几条对称轴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905120"/>
            <a:ext cx="0" cy="396216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838080" y="2238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你能找出下图中各图形的对称轴吗？    如果能，请在图上画出来。</a:t>
            </a:r>
            <a:r>
              <a:rPr b="1" lang="zh-CN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685800"/>
            <a:ext cx="579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cc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比一比</a:t>
            </a:r>
            <a:r>
              <a:rPr b="1" lang="en-US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cc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1" lang="zh-CN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cc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看谁最聪明</a:t>
            </a:r>
            <a:r>
              <a:rPr b="1" lang="en-US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cc99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1" lang="en-US" sz="4000" spc="1" strike="noStrike">
              <a:ln w="12600">
                <a:solidFill>
                  <a:srgbClr val="ffff00"/>
                </a:solidFill>
                <a:miter/>
              </a:ln>
              <a:solidFill>
                <a:srgbClr val="00cc99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914400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1295280"/>
            <a:ext cx="61722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想一想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0-9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十个数字中，哪些是轴对称图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0 1 2 3 4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5 6 7 8 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921120"/>
            <a:ext cx="609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54360" y="3962520"/>
            <a:ext cx="609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057040" y="3459240"/>
            <a:ext cx="1764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046840"/>
            <a:ext cx="0" cy="99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34920" cy="1008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16000" y="404640"/>
            <a:ext cx="50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数字猜想</a:t>
            </a:r>
            <a:endParaRPr b="1" lang="en-US" sz="4000" spc="1" strike="noStrike">
              <a:ln w="1260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62864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方正舒体"/>
                <a:ea typeface="华文中宋"/>
              </a:rPr>
              <a:t>想一想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华文中宋"/>
              </a:rPr>
              <a:t>：下列英文字母中，哪些是轴对称图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2004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A  C  D  E  F  G  H  I  J  L  M  N  O  P  Q  R  S  T  U  V  W  X  Y 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11160" y="325908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62240" y="3581280"/>
            <a:ext cx="644400" cy="6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5812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27520" y="35812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581280"/>
            <a:ext cx="533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18440" y="3335400"/>
            <a:ext cx="0" cy="533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97840" y="3317760"/>
            <a:ext cx="0" cy="5335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70320" y="388620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94200" y="3944880"/>
            <a:ext cx="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191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590920" y="4484520"/>
            <a:ext cx="17280" cy="644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32440" y="45021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49568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73600" y="449568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2200" y="447840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57200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34240" y="358128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800600"/>
            <a:ext cx="838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34920" cy="1008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16000" y="404640"/>
            <a:ext cx="50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字母猜想</a:t>
            </a:r>
            <a:endParaRPr b="1" lang="en-US" sz="4000" spc="1" strike="noStrike">
              <a:ln w="1260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55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知道吗？中国的汉字也十分注重对称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97180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中   目   </a:t>
            </a: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王   申    木  呈  土   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34920" cy="10080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16000" y="404640"/>
            <a:ext cx="50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汉字猜想</a:t>
            </a:r>
            <a:endParaRPr b="1" lang="en-US" sz="4000" spc="1" strike="noStrike">
              <a:ln w="1260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1066680" y="2050920"/>
            <a:ext cx="8076960" cy="4381200"/>
            <a:chOff x="1066680" y="2050920"/>
            <a:chExt cx="8076960" cy="4381200"/>
          </a:xfrm>
        </p:grpSpPr>
        <p:sp>
          <p:nvSpPr>
            <p:cNvPr id="174" name=""/>
            <p:cNvSpPr/>
            <p:nvPr/>
          </p:nvSpPr>
          <p:spPr>
            <a:xfrm>
              <a:off x="1066680" y="2050920"/>
              <a:ext cx="29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1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准备一张纸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732040"/>
              <a:ext cx="232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2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对折纸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3413520"/>
              <a:ext cx="5824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3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用笔尖在纸上扎出如图所示的图案（或者发挥你的想象剪出其它你认为美丽的图案）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6680" y="5154480"/>
              <a:ext cx="59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4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把纸打开铺平，观察所得的图案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66680" y="5911560"/>
              <a:ext cx="80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5.</a:t>
              </a:r>
              <a:r>
                <a:rPr b="1" lang="zh-CN" sz="2800" spc="-1" strike="noStrike">
                  <a:solidFill>
                    <a:srgbClr val="6600ff"/>
                  </a:solidFill>
                  <a:latin typeface="Verdana"/>
                </a:rPr>
                <a:t>与同组的同学交流，位于折痕两侧的部分有什么关系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7202520" y="2126160"/>
              <a:ext cx="1564560" cy="357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1371600" y="7621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6600"/>
                </a:solidFill>
                <a:latin typeface="Arial Narrow"/>
                <a:ea typeface="隶书"/>
              </a:rPr>
              <a:t>大家齐动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62120" y="2133720"/>
          <a:ext cx="8076960" cy="35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807696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4952880"/>
            <a:ext cx="82296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请你认真观察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每一组里，左边的图形沿直线对折后与右边的图形完全</a:t>
            </a:r>
            <a:r>
              <a:rPr b="1" lang="zh-CN" sz="3600" spc="-1" strike="noStrike">
                <a:solidFill>
                  <a:srgbClr val="9966ff"/>
                </a:solidFill>
                <a:latin typeface="Comic Sans MS"/>
                <a:ea typeface="隶书"/>
              </a:rPr>
              <a:t>重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143000"/>
            <a:ext cx="5333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Comic Sans MS"/>
                <a:ea typeface="隶书"/>
              </a:rPr>
              <a:t>请大家再看看下面两组图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2209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一个图形沿着某一条直线对折，如果它能够与另一个图形完全重合，那么就说这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宋体"/>
              </a:rPr>
              <a:t>两个图形成轴对称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2209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个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27874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另一个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54200" y="480060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条直线就是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对称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11430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47920" y="10666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二个结论：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58672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77120" y="5943600"/>
            <a:ext cx="190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幻灯片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952880"/>
            <a:ext cx="8380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507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0120" y="4952880"/>
            <a:ext cx="838080" cy="8384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507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762120" y="1066680"/>
            <a:ext cx="690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大家来玩一玩推理游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295280" y="2057400"/>
            <a:ext cx="7467840" cy="41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1293840" cy="160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143000" y="1219320"/>
            <a:ext cx="2438280" cy="1571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447920" y="2971800"/>
            <a:ext cx="213048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4264200" y="3048120"/>
          <a:ext cx="1298520" cy="24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4200" y="3048120"/>
                    <a:ext cx="12985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649840" y="3048120"/>
          <a:ext cx="1298520" cy="24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9840" y="3048120"/>
                    <a:ext cx="12985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805040" y="538200"/>
            <a:ext cx="50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观察下图中的每组图案，你发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877000"/>
            <a:ext cx="10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沿中间直线对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沿中间直线折叠完全重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990720"/>
            <a:ext cx="0" cy="1904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73600" y="1066680"/>
            <a:ext cx="0" cy="1828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437920" y="2971800"/>
            <a:ext cx="228600" cy="2743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7640" y="2895480"/>
            <a:ext cx="0" cy="2743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脸谱艺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1411560" cy="167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1447560" cy="160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638680" y="419112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71500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85800" y="4191120"/>
            <a:ext cx="1371600" cy="1562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4114800"/>
            <a:ext cx="144324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739152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038480" y="4191120"/>
            <a:ext cx="137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5284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折一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1568520"/>
            <a:ext cx="8424720" cy="41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运用折纸的方法折出一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仔细想一想，并动手折一折，同桌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间展开讨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52240" y="4157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一个角都可以通过折纸的办法平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0840" y="1052640"/>
            <a:ext cx="8785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角是轴对称图形吗？如果是，请找出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对称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276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9280" y="3127320"/>
            <a:ext cx="8713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☆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轴对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形，且它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对称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它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角平分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在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324000" y="888840"/>
            <a:ext cx="8534160" cy="5334120"/>
            <a:chOff x="324000" y="888840"/>
            <a:chExt cx="8534160" cy="5334120"/>
          </a:xfrm>
        </p:grpSpPr>
        <p:sp>
          <p:nvSpPr>
            <p:cNvPr id="226" name=""/>
            <p:cNvSpPr/>
            <p:nvPr/>
          </p:nvSpPr>
          <p:spPr>
            <a:xfrm>
              <a:off x="324000" y="888840"/>
              <a:ext cx="8534160" cy="533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你能利用折纸的方法将线段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成两段彼此相等的线段吗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916360" y="1484280"/>
              <a:ext cx="2457000" cy="2087640"/>
              <a:chOff x="2916360" y="1484280"/>
              <a:chExt cx="2457000" cy="2087640"/>
            </a:xfrm>
          </p:grpSpPr>
          <p:sp>
            <p:nvSpPr>
              <p:cNvPr id="228" name=""/>
              <p:cNvSpPr/>
              <p:nvPr/>
            </p:nvSpPr>
            <p:spPr>
              <a:xfrm>
                <a:off x="2916360" y="1484280"/>
                <a:ext cx="2449800" cy="20876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55120" y="2597760"/>
                <a:ext cx="1837800" cy="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53160" y="2527200"/>
                <a:ext cx="345240" cy="3682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028120" y="2597760"/>
                <a:ext cx="345240" cy="3682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75276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折一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4292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条线段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这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直平分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垂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perpendicular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6120" y="377280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段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轴对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703760" y="3773520"/>
            <a:ext cx="34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称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直平分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52760" y="42300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谈一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343640" cy="2232000"/>
          </a:xfrm>
          <a:custGeom>
            <a:avLst/>
            <a:gdLst>
              <a:gd name="textAreaLeft" fmla="*/ 0 w 7343640"/>
              <a:gd name="textAreaRight" fmla="*/ 7344000 w 7343640"/>
              <a:gd name="textAreaTop" fmla="*/ 289080 h 2232000"/>
              <a:gd name="textAreaBottom" fmla="*/ 19429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学们，这节课你有什么体会和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622080" cy="1557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91520" y="5300640"/>
            <a:ext cx="6220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742840" y="228600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34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9092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某一乡村公路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同侧，有两个农场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为了便于两个工厂的工人看病，乡政府计划在公路边上修建一所医院，使得它到两工厂的距离相等，试问医院的院址应选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710560" y="4805280"/>
            <a:ext cx="204840" cy="452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031320" y="4724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257800"/>
            <a:ext cx="9372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3852720"/>
            <a:ext cx="1447560" cy="1405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60360" y="5867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2590920"/>
            <a:ext cx="685800" cy="609480"/>
          </a:xfrm>
          <a:prstGeom prst="cloudCallout">
            <a:avLst>
              <a:gd name="adj1" fmla="val -31944"/>
              <a:gd name="adj2" fmla="val 1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533520" y="304920"/>
            <a:ext cx="157464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6781680" y="2743200"/>
            <a:ext cx="157500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600200" y="3733920"/>
            <a:ext cx="6019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762120"/>
            <a:ext cx="0" cy="53337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505320"/>
            <a:ext cx="228600" cy="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505320"/>
            <a:ext cx="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0"/>
            <a:ext cx="41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614920" y="502920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15120" y="1447920"/>
            <a:ext cx="0" cy="54100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157720" y="4952880"/>
            <a:ext cx="3985920" cy="459720"/>
            <a:chOff x="5157720" y="4952880"/>
            <a:chExt cx="3985920" cy="459720"/>
          </a:xfrm>
        </p:grpSpPr>
        <p:sp>
          <p:nvSpPr>
            <p:cNvPr id="263" name=""/>
            <p:cNvSpPr/>
            <p:nvPr/>
          </p:nvSpPr>
          <p:spPr>
            <a:xfrm>
              <a:off x="5157720" y="49528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39000" y="49528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174080" y="25509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614920" y="2590560"/>
            <a:ext cx="1600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15120" y="2590920"/>
            <a:ext cx="152424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59720" y="2286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216920" y="1371600"/>
            <a:ext cx="477000" cy="5412600"/>
            <a:chOff x="7216920" y="1371600"/>
            <a:chExt cx="477000" cy="5412600"/>
          </a:xfrm>
        </p:grpSpPr>
        <p:sp>
          <p:nvSpPr>
            <p:cNvPr id="270" name=""/>
            <p:cNvSpPr/>
            <p:nvPr/>
          </p:nvSpPr>
          <p:spPr>
            <a:xfrm>
              <a:off x="7216920" y="13716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93600" y="6324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1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2000" y="21337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15120" y="4786200"/>
            <a:ext cx="228600" cy="2286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788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1219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⊥AB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垂足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=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5943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029200"/>
            <a:ext cx="160020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162560" y="502920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75560" y="6019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240" y="2133720"/>
            <a:ext cx="132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=P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3800" y="2057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685800"/>
            <a:ext cx="8534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题：线段垂直平分线上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这条线段两个端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76320" y="166680"/>
            <a:ext cx="9067320" cy="6691320"/>
            <a:chOff x="76320" y="166680"/>
            <a:chExt cx="9067320" cy="6691320"/>
          </a:xfrm>
        </p:grpSpPr>
        <p:sp>
          <p:nvSpPr>
            <p:cNvPr id="285" name=""/>
            <p:cNvSpPr/>
            <p:nvPr/>
          </p:nvSpPr>
          <p:spPr>
            <a:xfrm>
              <a:off x="763920" y="166680"/>
              <a:ext cx="26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157720" y="1371600"/>
              <a:ext cx="3985920" cy="5486400"/>
              <a:chOff x="5157720" y="1371600"/>
              <a:chExt cx="3985920" cy="5486400"/>
            </a:xfrm>
          </p:grpSpPr>
          <p:sp>
            <p:nvSpPr>
              <p:cNvPr id="287" name=""/>
              <p:cNvSpPr/>
              <p:nvPr/>
            </p:nvSpPr>
            <p:spPr>
              <a:xfrm>
                <a:off x="5614920" y="5029200"/>
                <a:ext cx="312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15120" y="1447920"/>
                <a:ext cx="0" cy="541008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5157720" y="4952880"/>
                <a:ext cx="3985920" cy="459720"/>
                <a:chOff x="5157720" y="4952880"/>
                <a:chExt cx="3985920" cy="45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157720" y="495288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739000" y="495288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7174080" y="25509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5614920" y="2590560"/>
                <a:ext cx="160020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15120" y="2590920"/>
                <a:ext cx="152424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59720" y="22860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216920" y="1371600"/>
                <a:ext cx="477000" cy="5412600"/>
                <a:chOff x="7216920" y="1371600"/>
                <a:chExt cx="477000" cy="54126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216920" y="13716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293600" y="63244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7215120" y="4786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7880" y="5029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602000" y="2133720"/>
              <a:ext cx="114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A=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20" y="121932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直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N⊥AB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垂足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,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且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=C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4920" y="685800"/>
              <a:ext cx="85341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命题：线段垂直平分线上的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点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这条线段两个端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点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距离相等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295280" y="1143000"/>
            <a:ext cx="7543440" cy="76320"/>
            <a:chOff x="1295280" y="1143000"/>
            <a:chExt cx="7543440" cy="76320"/>
          </a:xfrm>
        </p:grpSpPr>
        <p:sp>
          <p:nvSpPr>
            <p:cNvPr id="305" name=""/>
            <p:cNvSpPr/>
            <p:nvPr/>
          </p:nvSpPr>
          <p:spPr>
            <a:xfrm>
              <a:off x="1295280" y="1143000"/>
              <a:ext cx="31885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7240" y="1219320"/>
              <a:ext cx="48214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352680" y="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04920" y="685800"/>
            <a:ext cx="883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题：线段垂直平分线上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这条线段两个端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166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157720" y="1371600"/>
            <a:ext cx="3985920" cy="5486400"/>
            <a:chOff x="5157720" y="1371600"/>
            <a:chExt cx="3985920" cy="5486400"/>
          </a:xfrm>
        </p:grpSpPr>
        <p:sp>
          <p:nvSpPr>
            <p:cNvPr id="311" name=""/>
            <p:cNvSpPr/>
            <p:nvPr/>
          </p:nvSpPr>
          <p:spPr>
            <a:xfrm>
              <a:off x="5614920" y="5029200"/>
              <a:ext cx="312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15120" y="1447920"/>
              <a:ext cx="0" cy="54100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5157720" y="4952880"/>
              <a:ext cx="3985920" cy="459720"/>
              <a:chOff x="5157720" y="4952880"/>
              <a:chExt cx="3985920" cy="459720"/>
            </a:xfrm>
          </p:grpSpPr>
          <p:sp>
            <p:nvSpPr>
              <p:cNvPr id="314" name=""/>
              <p:cNvSpPr/>
              <p:nvPr/>
            </p:nvSpPr>
            <p:spPr>
              <a:xfrm>
                <a:off x="5157720" y="495288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739000" y="495288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7174080" y="25509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614920" y="2590560"/>
              <a:ext cx="16002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15120" y="2590920"/>
              <a:ext cx="152424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5972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216920" y="1371600"/>
              <a:ext cx="477000" cy="5412600"/>
              <a:chOff x="7216920" y="1371600"/>
              <a:chExt cx="477000" cy="5412600"/>
            </a:xfrm>
          </p:grpSpPr>
          <p:sp>
            <p:nvSpPr>
              <p:cNvPr id="321" name=""/>
              <p:cNvSpPr/>
              <p:nvPr/>
            </p:nvSpPr>
            <p:spPr>
              <a:xfrm>
                <a:off x="7216920" y="13716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93600" y="6324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7215120" y="4786200"/>
            <a:ext cx="228600" cy="2286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0788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2000" y="21337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320" y="138276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⊥AB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垂足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=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320" y="14540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：如图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2520" y="174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7516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295280" y="1143000"/>
            <a:ext cx="7543440" cy="76320"/>
            <a:chOff x="1295280" y="1143000"/>
            <a:chExt cx="7543440" cy="76320"/>
          </a:xfrm>
        </p:grpSpPr>
        <p:sp>
          <p:nvSpPr>
            <p:cNvPr id="332" name=""/>
            <p:cNvSpPr/>
            <p:nvPr/>
          </p:nvSpPr>
          <p:spPr>
            <a:xfrm>
              <a:off x="1295280" y="1143000"/>
              <a:ext cx="318852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17240" y="1219320"/>
              <a:ext cx="48214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28600" y="2819520"/>
            <a:ext cx="6095880" cy="3020040"/>
            <a:chOff x="228600" y="2819520"/>
            <a:chExt cx="6095880" cy="3020040"/>
          </a:xfrm>
        </p:grpSpPr>
        <p:sp>
          <p:nvSpPr>
            <p:cNvPr id="335" name=""/>
            <p:cNvSpPr/>
            <p:nvPr/>
          </p:nvSpPr>
          <p:spPr>
            <a:xfrm>
              <a:off x="228600" y="2819520"/>
              <a:ext cx="60958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明：∵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N⊥AB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已知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∴ ∠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CA= ∠ PC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垂直的定义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ΔPA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和△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=BC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已知）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∠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CA= ∠ PCB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已证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C=PC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公共边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∴ 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C ≌△ PB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∴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=P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全等三角形的对应边相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3000" y="4114800"/>
              <a:ext cx="152280" cy="8380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剪纸艺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539800" cy="1778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590560" cy="2011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200400" y="3962520"/>
            <a:ext cx="266688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396252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248520" y="152388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166680"/>
            <a:ext cx="9144000" cy="6691320"/>
            <a:chOff x="0" y="166680"/>
            <a:chExt cx="9144000" cy="6691320"/>
          </a:xfrm>
        </p:grpSpPr>
        <p:sp>
          <p:nvSpPr>
            <p:cNvPr id="338" name=""/>
            <p:cNvSpPr/>
            <p:nvPr/>
          </p:nvSpPr>
          <p:spPr>
            <a:xfrm>
              <a:off x="0" y="6858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性质定理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段垂直平分线上的点和这条线段两个端点的距离相等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4280" y="166680"/>
              <a:ext cx="3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5157720" y="1371600"/>
              <a:ext cx="3985920" cy="5486400"/>
              <a:chOff x="5157720" y="1371600"/>
              <a:chExt cx="3985920" cy="5486400"/>
            </a:xfrm>
          </p:grpSpPr>
          <p:sp>
            <p:nvSpPr>
              <p:cNvPr id="341" name=""/>
              <p:cNvSpPr/>
              <p:nvPr/>
            </p:nvSpPr>
            <p:spPr>
              <a:xfrm>
                <a:off x="5614920" y="5029200"/>
                <a:ext cx="312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215120" y="1447920"/>
                <a:ext cx="0" cy="541008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5157720" y="4952880"/>
                <a:ext cx="3985920" cy="459720"/>
                <a:chOff x="5157720" y="4952880"/>
                <a:chExt cx="3985920" cy="45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57720" y="495288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739000" y="495288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7174080" y="255096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14920" y="2590560"/>
                <a:ext cx="160020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15120" y="2590920"/>
                <a:ext cx="152424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59720" y="22860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7216920" y="1371600"/>
                <a:ext cx="477000" cy="5412600"/>
                <a:chOff x="7216920" y="1371600"/>
                <a:chExt cx="477000" cy="54126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7216920" y="13716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93600" y="63244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3" name=""/>
          <p:cNvSpPr/>
          <p:nvPr/>
        </p:nvSpPr>
        <p:spPr>
          <a:xfrm>
            <a:off x="670788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15120" y="4786200"/>
            <a:ext cx="228600" cy="228600"/>
          </a:xfrm>
          <a:prstGeom prst="rect">
            <a:avLst/>
          </a:prstGeom>
          <a:solidFill>
            <a:srgbClr val="fffff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22860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927080"/>
            <a:ext cx="1676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点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在线段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的垂直平分线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25146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1828800"/>
            <a:ext cx="275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线段垂直平分线上的点和这条线段两个端点的距离相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75600" y="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743200" y="182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15120" y="2590920"/>
            <a:ext cx="0" cy="243828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157720" y="2286000"/>
            <a:ext cx="3985920" cy="3126600"/>
            <a:chOff x="5157720" y="2286000"/>
            <a:chExt cx="3985920" cy="3126600"/>
          </a:xfrm>
        </p:grpSpPr>
        <p:sp>
          <p:nvSpPr>
            <p:cNvPr id="363" name=""/>
            <p:cNvSpPr/>
            <p:nvPr/>
          </p:nvSpPr>
          <p:spPr>
            <a:xfrm>
              <a:off x="5614920" y="5029200"/>
              <a:ext cx="312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157720" y="4952880"/>
              <a:ext cx="3985920" cy="459720"/>
              <a:chOff x="5157720" y="4952880"/>
              <a:chExt cx="3985920" cy="459720"/>
            </a:xfrm>
          </p:grpSpPr>
          <p:sp>
            <p:nvSpPr>
              <p:cNvPr id="365" name=""/>
              <p:cNvSpPr/>
              <p:nvPr/>
            </p:nvSpPr>
            <p:spPr>
              <a:xfrm>
                <a:off x="5157720" y="495288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739000" y="495288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7174080" y="255096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614920" y="2590560"/>
              <a:ext cx="16002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15120" y="2590920"/>
              <a:ext cx="152424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59720" y="2286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77772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15120" y="4786200"/>
            <a:ext cx="228600" cy="2286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685800"/>
            <a:ext cx="9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性质定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段垂直平分线上的点和这条线段两个端点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7800" y="22860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927080"/>
            <a:ext cx="1676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点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在线段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的垂直平分线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25146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21337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逆    命题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一条线段两个端点距离相等的点，在这条线段的垂直平分线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048120" y="182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685800"/>
            <a:ext cx="93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性质定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段垂直平分线上的点和这条线段两个端点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57800" y="22860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27080"/>
            <a:ext cx="1676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点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在线段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的垂直平分线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81080" y="25146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逆    定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一条线段两个端点距离相等的点，在这条线段的垂直平分线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15120" y="2743200"/>
            <a:ext cx="0" cy="243828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57720" y="2438280"/>
            <a:ext cx="3985920" cy="3126600"/>
            <a:chOff x="5157720" y="2438280"/>
            <a:chExt cx="3985920" cy="3126600"/>
          </a:xfrm>
        </p:grpSpPr>
        <p:sp>
          <p:nvSpPr>
            <p:cNvPr id="387" name=""/>
            <p:cNvSpPr/>
            <p:nvPr/>
          </p:nvSpPr>
          <p:spPr>
            <a:xfrm>
              <a:off x="5614920" y="5181480"/>
              <a:ext cx="312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157720" y="5105160"/>
              <a:ext cx="3985920" cy="459720"/>
              <a:chOff x="5157720" y="5105160"/>
              <a:chExt cx="3985920" cy="459720"/>
            </a:xfrm>
          </p:grpSpPr>
          <p:sp>
            <p:nvSpPr>
              <p:cNvPr id="389" name=""/>
              <p:cNvSpPr/>
              <p:nvPr/>
            </p:nvSpPr>
            <p:spPr>
              <a:xfrm>
                <a:off x="5157720" y="51051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739000" y="51051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7174080" y="270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614920" y="2742840"/>
              <a:ext cx="16002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15120" y="2743200"/>
              <a:ext cx="152424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5972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77772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15120" y="4938840"/>
            <a:ext cx="228600" cy="2286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逆    定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一条线段两个端点距离相等的点，在这条线段的垂直平分线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9520" y="18252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685800"/>
            <a:ext cx="96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性质定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段垂直平分线上的点和这条线段两个端点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228600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A=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1927080"/>
            <a:ext cx="1676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点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在线段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的垂直平分线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25146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3720" y="259092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和一条线段两个端点距离相等的点，在这条线段的垂直平分线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15120" y="2743200"/>
            <a:ext cx="0" cy="2438280"/>
          </a:xfrm>
          <a:prstGeom prst="line">
            <a:avLst/>
          </a:prstGeom>
          <a:ln w="381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157720" y="2438280"/>
            <a:ext cx="3985920" cy="3126600"/>
            <a:chOff x="5157720" y="2438280"/>
            <a:chExt cx="3985920" cy="3126600"/>
          </a:xfrm>
        </p:grpSpPr>
        <p:sp>
          <p:nvSpPr>
            <p:cNvPr id="406" name=""/>
            <p:cNvSpPr/>
            <p:nvPr/>
          </p:nvSpPr>
          <p:spPr>
            <a:xfrm>
              <a:off x="5614920" y="5181480"/>
              <a:ext cx="312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157720" y="5105160"/>
              <a:ext cx="3985920" cy="459720"/>
              <a:chOff x="5157720" y="5105160"/>
              <a:chExt cx="3985920" cy="459720"/>
            </a:xfrm>
          </p:grpSpPr>
          <p:sp>
            <p:nvSpPr>
              <p:cNvPr id="408" name=""/>
              <p:cNvSpPr/>
              <p:nvPr/>
            </p:nvSpPr>
            <p:spPr>
              <a:xfrm>
                <a:off x="5157720" y="51051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739000" y="510516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7174080" y="270324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614920" y="2742840"/>
              <a:ext cx="16002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15120" y="2743200"/>
              <a:ext cx="152424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972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77772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15120" y="4938840"/>
            <a:ext cx="228600" cy="2286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cc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0" y="160200"/>
            <a:ext cx="9144000" cy="5481000"/>
            <a:chOff x="0" y="160200"/>
            <a:chExt cx="9144000" cy="5481000"/>
          </a:xfrm>
        </p:grpSpPr>
        <p:grpSp>
          <p:nvGrpSpPr>
            <p:cNvPr id="417" name=""/>
            <p:cNvGrpSpPr/>
            <p:nvPr/>
          </p:nvGrpSpPr>
          <p:grpSpPr>
            <a:xfrm>
              <a:off x="0" y="160200"/>
              <a:ext cx="9144000" cy="1366200"/>
              <a:chOff x="0" y="160200"/>
              <a:chExt cx="9144000" cy="1366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066680"/>
                <a:ext cx="914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逆    定理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一条线段两个端点距离相等的点，在这条线段的垂直平分线上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2120" y="16020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0" y="6858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性质定理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线段垂直平分线上的点和此线段两个端点的距离相等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57800" y="2457360"/>
              <a:ext cx="1295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PA=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4920" y="2079720"/>
              <a:ext cx="167616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点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在线段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AB</a:t>
              </a:r>
              <a:r>
                <a:rPr b="1" i="1" lang="zh-CN" sz="2400" spc="-1" strike="noStrike">
                  <a:solidFill>
                    <a:srgbClr val="3333cc"/>
                  </a:solidFill>
                  <a:latin typeface="Times New Roman"/>
                </a:rPr>
                <a:t>的垂直平分线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277164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33720" y="2847960"/>
              <a:ext cx="304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和一条线段两个端点距离相等的点，在这条线段的垂直平分线上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2743200"/>
              <a:ext cx="0" cy="2438280"/>
            </a:xfrm>
            <a:prstGeom prst="line">
              <a:avLst/>
            </a:prstGeom>
            <a:ln w="38160">
              <a:solidFill>
                <a:srgbClr val="cc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157720" y="2438280"/>
              <a:ext cx="3985920" cy="3126600"/>
              <a:chOff x="5157720" y="2438280"/>
              <a:chExt cx="3985920" cy="3126600"/>
            </a:xfrm>
          </p:grpSpPr>
          <p:sp>
            <p:nvSpPr>
              <p:cNvPr id="427" name=""/>
              <p:cNvSpPr/>
              <p:nvPr/>
            </p:nvSpPr>
            <p:spPr>
              <a:xfrm>
                <a:off x="5614920" y="5181480"/>
                <a:ext cx="312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5157720" y="5105160"/>
                <a:ext cx="3985920" cy="459720"/>
                <a:chOff x="5157720" y="5105160"/>
                <a:chExt cx="3985920" cy="459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5157720" y="510516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739000" y="5105160"/>
                  <a:ext cx="404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7174080" y="2703240"/>
                <a:ext cx="7596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614920" y="2742840"/>
                <a:ext cx="160020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15120" y="2743200"/>
                <a:ext cx="152424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59720" y="24382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6777720" y="5181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15120" y="4938840"/>
              <a:ext cx="228600" cy="228600"/>
            </a:xfrm>
            <a:prstGeom prst="rect">
              <a:avLst/>
            </a:prstGeom>
            <a:solidFill>
              <a:srgbClr val="ffffff"/>
            </a:solidFill>
            <a:ln cap="rnd" w="12600">
              <a:solidFill>
                <a:srgbClr val="cc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81080" y="254304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86000" y="1905120"/>
              <a:ext cx="275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a50021"/>
                  </a:solidFill>
                  <a:latin typeface="Times New Roman"/>
                </a:rPr>
                <a:t>线段垂直平分线上的点和这条线段两个端点的距离相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751920" y="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228600" y="136440"/>
            <a:ext cx="8686800" cy="4894920"/>
            <a:chOff x="228600" y="136440"/>
            <a:chExt cx="8686800" cy="4894920"/>
          </a:xfrm>
        </p:grpSpPr>
        <p:grpSp>
          <p:nvGrpSpPr>
            <p:cNvPr id="441" name=""/>
            <p:cNvGrpSpPr/>
            <p:nvPr/>
          </p:nvGrpSpPr>
          <p:grpSpPr>
            <a:xfrm>
              <a:off x="228600" y="136440"/>
              <a:ext cx="4267080" cy="4894920"/>
              <a:chOff x="228600" y="136440"/>
              <a:chExt cx="4267080" cy="489492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688320" y="806400"/>
                <a:ext cx="2892600" cy="2089800"/>
                <a:chOff x="688320" y="806400"/>
                <a:chExt cx="2892600" cy="208980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990360" y="1187280"/>
                  <a:ext cx="2285640" cy="1295280"/>
                  <a:chOff x="990360" y="1187280"/>
                  <a:chExt cx="2285640" cy="12952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990360" y="2482560"/>
                    <a:ext cx="22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V="1">
                    <a:off x="990360" y="1187280"/>
                    <a:ext cx="167580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" name=""/>
                <p:cNvSpPr/>
                <p:nvPr/>
              </p:nvSpPr>
              <p:spPr>
                <a:xfrm flipV="1">
                  <a:off x="990360" y="1568520"/>
                  <a:ext cx="2590560" cy="9144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50880" y="194940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2133360" y="1568520"/>
                  <a:ext cx="304560" cy="3808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8320" y="2406600"/>
                  <a:ext cx="337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677600" y="118728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058120" y="2558880"/>
                  <a:ext cx="31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2361960" y="806400"/>
                  <a:ext cx="304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3123360" y="25588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2361960" y="1568520"/>
                  <a:ext cx="304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2971440" y="1339920"/>
                  <a:ext cx="304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80400" y="136440"/>
                <a:ext cx="113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角的平分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4920" y="2955960"/>
                <a:ext cx="419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定理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1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在角的平分线上的点到这个角的两边的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距离相等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3641760"/>
                <a:ext cx="403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定理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2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到一个角的两边的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距离相等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的点，在这个角的平分线上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8600" y="4327560"/>
                <a:ext cx="4114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角的平分线是到角的</a:t>
                </a:r>
                <a:r>
                  <a:rPr b="1" lang="zh-CN" sz="2000" spc="-1" strike="noStrike" u="sng">
                    <a:solidFill>
                      <a:srgbClr val="3333cc"/>
                    </a:solidFill>
                    <a:uFillTx/>
                    <a:latin typeface="Times New Roman"/>
                  </a:rPr>
                  <a:t>两边</a:t>
                </a:r>
                <a:r>
                  <a:rPr b="1" lang="zh-CN" sz="20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距离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相等的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所有点的集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5633280" y="136440"/>
              <a:ext cx="15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线段的垂直平分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48320" y="2940120"/>
              <a:ext cx="41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定    理   线段垂直平分线上的点和这条线段两个端点的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距离相等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8320" y="3641760"/>
              <a:ext cx="426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逆定理   和一条线段两个端点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距离相等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点，在这条线段的垂直平分线上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24280" y="4327560"/>
              <a:ext cx="41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线段的垂直平分线可以看作是和线段</a:t>
              </a: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两上端点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距离相等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的所有点的集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564520" y="658800"/>
              <a:ext cx="2356920" cy="2239200"/>
              <a:chOff x="5564520" y="658800"/>
              <a:chExt cx="2356920" cy="2239200"/>
            </a:xfrm>
          </p:grpSpPr>
          <p:sp>
            <p:nvSpPr>
              <p:cNvPr id="465" name=""/>
              <p:cNvSpPr/>
              <p:nvPr/>
            </p:nvSpPr>
            <p:spPr>
              <a:xfrm>
                <a:off x="5943600" y="22096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773760" y="658800"/>
                <a:ext cx="0" cy="216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5943600" y="1523880"/>
                <a:ext cx="838080" cy="685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81680" y="1523880"/>
                <a:ext cx="762120" cy="685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564520" y="2106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21920" y="2106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402600" y="9907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78920" y="25909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59440" y="12682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>
            <a:off x="131076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点的集合是一条射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4140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点的集合是一条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类比学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19520" y="1666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7621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交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=PB=P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577120" y="1878120"/>
            <a:ext cx="3260160" cy="3151080"/>
            <a:chOff x="5577120" y="1878120"/>
            <a:chExt cx="3260160" cy="3151080"/>
          </a:xfrm>
        </p:grpSpPr>
        <p:grpSp>
          <p:nvGrpSpPr>
            <p:cNvPr id="480" name=""/>
            <p:cNvGrpSpPr/>
            <p:nvPr/>
          </p:nvGrpSpPr>
          <p:grpSpPr>
            <a:xfrm>
              <a:off x="5956200" y="2286000"/>
              <a:ext cx="2514600" cy="2743200"/>
              <a:chOff x="5956200" y="2286000"/>
              <a:chExt cx="2514600" cy="2743200"/>
            </a:xfrm>
          </p:grpSpPr>
          <p:sp>
            <p:nvSpPr>
              <p:cNvPr id="481" name=""/>
              <p:cNvSpPr/>
              <p:nvPr/>
            </p:nvSpPr>
            <p:spPr>
              <a:xfrm>
                <a:off x="5956200" y="2286000"/>
                <a:ext cx="2514600" cy="1752840"/>
              </a:xfrm>
              <a:custGeom>
                <a:avLst/>
                <a:gdLst/>
                <a:ahLst/>
                <a:rect l="l" t="t" r="r" b="b"/>
                <a:pathLst>
                  <a:path w="1584" h="1104">
                    <a:moveTo>
                      <a:pt x="1200" y="0"/>
                    </a:moveTo>
                    <a:lnTo>
                      <a:pt x="0" y="1104"/>
                    </a:lnTo>
                    <a:lnTo>
                      <a:pt x="1584" y="1104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251480" y="259092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37080" y="2438640"/>
                <a:ext cx="160020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956200" y="3581640"/>
                <a:ext cx="1295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7251480" y="2286000"/>
                <a:ext cx="60984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7251120" y="3562560"/>
                <a:ext cx="1219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5577120" y="39625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86440" y="1878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2240" y="3962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14480" y="219420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38720" y="4240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51840" y="241164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52560" y="4621320"/>
              <a:ext cx="45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53280" y="3249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28600" y="1905120"/>
            <a:ext cx="5121000" cy="3876120"/>
            <a:chOff x="228600" y="1905120"/>
            <a:chExt cx="5121000" cy="3876120"/>
          </a:xfrm>
        </p:grpSpPr>
        <p:grpSp>
          <p:nvGrpSpPr>
            <p:cNvPr id="496" name=""/>
            <p:cNvGrpSpPr/>
            <p:nvPr/>
          </p:nvGrpSpPr>
          <p:grpSpPr>
            <a:xfrm>
              <a:off x="228600" y="2590920"/>
              <a:ext cx="5121000" cy="3190320"/>
              <a:chOff x="228600" y="2590920"/>
              <a:chExt cx="5121000" cy="3190320"/>
            </a:xfrm>
          </p:grpSpPr>
          <p:sp>
            <p:nvSpPr>
              <p:cNvPr id="497" name=""/>
              <p:cNvSpPr/>
              <p:nvPr/>
            </p:nvSpPr>
            <p:spPr>
              <a:xfrm>
                <a:off x="1023480" y="3962520"/>
                <a:ext cx="111348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A=P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546360" y="3962520"/>
                <a:ext cx="117792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B=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90440" y="5321520"/>
                <a:ext cx="165744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A=PB=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8600" y="2590920"/>
                <a:ext cx="2377800" cy="825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点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在线段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AB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的垂直平分线上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71800" y="2590920"/>
                <a:ext cx="2377800" cy="825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点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P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在线段</a:t>
                </a:r>
                <a:r>
                  <a:rPr b="0" lang="en-US" sz="2400" spc="-1" strike="noStrike">
                    <a:solidFill>
                      <a:srgbClr val="0000ff"/>
                    </a:solidFill>
                    <a:latin typeface="Times New Roman"/>
                  </a:rPr>
                  <a:t>BC</a:t>
                </a:r>
                <a:r>
                  <a:rPr b="0" lang="zh-CN" sz="2400" spc="-1" strike="noStrike">
                    <a:solidFill>
                      <a:srgbClr val="0000ff"/>
                    </a:solidFill>
                    <a:latin typeface="Times New Roman"/>
                  </a:rPr>
                  <a:t>的垂直平分线上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 rot="5400000">
                <a:off x="2781000" y="3314880"/>
                <a:ext cx="76320" cy="2743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71280 h 2743200"/>
                  <a:gd name="textAreaBottom" fmla="*/ 2671920 h 27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312"/>
                    </a:lnTo>
                    <a:cubicBezTo>
                      <a:pt x="10800" y="10212"/>
                      <a:pt x="16200" y="11112"/>
                      <a:pt x="21600" y="11112"/>
                    </a:cubicBezTo>
                    <a:cubicBezTo>
                      <a:pt x="16200" y="11112"/>
                      <a:pt x="10800" y="12012"/>
                      <a:pt x="10800" y="12912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19160" y="47246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47560" y="342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14800" y="34293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870480" y="19051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分析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8379360" y="6377040"/>
            <a:ext cx="435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048120" y="1666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" y="7621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交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=PB=P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577120" y="1878120"/>
            <a:ext cx="3260160" cy="3151080"/>
            <a:chOff x="5577120" y="1878120"/>
            <a:chExt cx="3260160" cy="3151080"/>
          </a:xfrm>
        </p:grpSpPr>
        <p:grpSp>
          <p:nvGrpSpPr>
            <p:cNvPr id="511" name=""/>
            <p:cNvGrpSpPr/>
            <p:nvPr/>
          </p:nvGrpSpPr>
          <p:grpSpPr>
            <a:xfrm>
              <a:off x="5956200" y="2286000"/>
              <a:ext cx="2514600" cy="2743200"/>
              <a:chOff x="5956200" y="2286000"/>
              <a:chExt cx="2514600" cy="2743200"/>
            </a:xfrm>
          </p:grpSpPr>
          <p:sp>
            <p:nvSpPr>
              <p:cNvPr id="512" name=""/>
              <p:cNvSpPr/>
              <p:nvPr/>
            </p:nvSpPr>
            <p:spPr>
              <a:xfrm>
                <a:off x="5956200" y="2286000"/>
                <a:ext cx="2514600" cy="1752840"/>
              </a:xfrm>
              <a:custGeom>
                <a:avLst/>
                <a:gdLst/>
                <a:ahLst/>
                <a:rect l="l" t="t" r="r" b="b"/>
                <a:pathLst>
                  <a:path w="1584" h="1104">
                    <a:moveTo>
                      <a:pt x="1200" y="0"/>
                    </a:moveTo>
                    <a:lnTo>
                      <a:pt x="0" y="1104"/>
                    </a:lnTo>
                    <a:lnTo>
                      <a:pt x="1584" y="1104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51480" y="259092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337080" y="2438640"/>
                <a:ext cx="160020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5956200" y="3581640"/>
                <a:ext cx="1295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7251480" y="2286000"/>
                <a:ext cx="60984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7251120" y="3562560"/>
                <a:ext cx="1219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5577120" y="39625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86440" y="1878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72240" y="3962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53280" y="3249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8376840" y="6377040"/>
            <a:ext cx="435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" y="2133720"/>
            <a:ext cx="685800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上（已知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=P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段垂直平分线上的点和这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段两 个端点距离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B=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=PB=P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5577120" y="1878120"/>
            <a:ext cx="3260160" cy="3151080"/>
            <a:chOff x="5577120" y="1878120"/>
            <a:chExt cx="3260160" cy="3151080"/>
          </a:xfrm>
        </p:grpSpPr>
        <p:grpSp>
          <p:nvGrpSpPr>
            <p:cNvPr id="525" name=""/>
            <p:cNvGrpSpPr/>
            <p:nvPr/>
          </p:nvGrpSpPr>
          <p:grpSpPr>
            <a:xfrm>
              <a:off x="5956200" y="2286000"/>
              <a:ext cx="2514600" cy="2743200"/>
              <a:chOff x="5956200" y="2286000"/>
              <a:chExt cx="2514600" cy="2743200"/>
            </a:xfrm>
          </p:grpSpPr>
          <p:sp>
            <p:nvSpPr>
              <p:cNvPr id="526" name=""/>
              <p:cNvSpPr/>
              <p:nvPr/>
            </p:nvSpPr>
            <p:spPr>
              <a:xfrm>
                <a:off x="5956200" y="2286000"/>
                <a:ext cx="2514600" cy="1752840"/>
              </a:xfrm>
              <a:custGeom>
                <a:avLst/>
                <a:gdLst/>
                <a:ahLst/>
                <a:rect l="l" t="t" r="r" b="b"/>
                <a:pathLst>
                  <a:path w="1584" h="1104">
                    <a:moveTo>
                      <a:pt x="1200" y="0"/>
                    </a:moveTo>
                    <a:lnTo>
                      <a:pt x="0" y="1104"/>
                    </a:lnTo>
                    <a:lnTo>
                      <a:pt x="1584" y="1104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51480" y="259092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37080" y="2438640"/>
                <a:ext cx="1600200" cy="19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5956200" y="3581640"/>
                <a:ext cx="1295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7251480" y="2286000"/>
                <a:ext cx="60984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flipV="1">
                <a:off x="7251120" y="3562560"/>
                <a:ext cx="1219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5577120" y="39625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86440" y="1878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72240" y="3962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53280" y="32497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514600" y="166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21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交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证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=PB=P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79360" y="6377040"/>
            <a:ext cx="435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2133720"/>
            <a:ext cx="48769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=PC=P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证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垂直平分线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和线段两个端点距离相等的点，在这条线段的垂直平分线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010280" y="2998800"/>
            <a:ext cx="1676520" cy="6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7680" y="5202360"/>
            <a:ext cx="83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结论： 三角形三边垂直平分线交于一点，这一点到三角形三个顶点的距离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124080" y="1666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11920" y="2895480"/>
            <a:ext cx="3548160" cy="2059920"/>
            <a:chOff x="511920" y="2895480"/>
            <a:chExt cx="3548160" cy="2059920"/>
          </a:xfrm>
        </p:grpSpPr>
        <p:sp>
          <p:nvSpPr>
            <p:cNvPr id="544" name=""/>
            <p:cNvSpPr/>
            <p:nvPr/>
          </p:nvSpPr>
          <p:spPr>
            <a:xfrm>
              <a:off x="990720" y="3352680"/>
              <a:ext cx="2590560" cy="1371600"/>
            </a:xfrm>
            <a:prstGeom prst="triangle">
              <a:avLst>
                <a:gd name="adj" fmla="val 7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1920" y="449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68680" y="289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9760" y="4495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107320" y="2743200"/>
            <a:ext cx="3050280" cy="1981080"/>
            <a:chOff x="5107320" y="2743200"/>
            <a:chExt cx="3050280" cy="1981080"/>
          </a:xfrm>
        </p:grpSpPr>
        <p:grpSp>
          <p:nvGrpSpPr>
            <p:cNvPr id="549" name=""/>
            <p:cNvGrpSpPr/>
            <p:nvPr/>
          </p:nvGrpSpPr>
          <p:grpSpPr>
            <a:xfrm>
              <a:off x="5257800" y="3429000"/>
              <a:ext cx="2895480" cy="1295280"/>
              <a:chOff x="5257800" y="3429000"/>
              <a:chExt cx="2895480" cy="1295280"/>
            </a:xfrm>
          </p:grpSpPr>
          <p:sp>
            <p:nvSpPr>
              <p:cNvPr id="550" name=""/>
              <p:cNvSpPr/>
              <p:nvPr/>
            </p:nvSpPr>
            <p:spPr>
              <a:xfrm>
                <a:off x="5257800" y="4724280"/>
                <a:ext cx="28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41520" y="3429000"/>
                <a:ext cx="60120" cy="55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610400" y="4217400"/>
                <a:ext cx="60120" cy="56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5107320" y="419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93480" y="2743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74200" y="388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80880" y="1082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求作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它和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顶点距离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12536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，在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求作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=P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5720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车标设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876920" y="14479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086600" y="14479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0880" y="403848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581280" y="4114800"/>
            <a:ext cx="198144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086600" y="41148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468360" y="1297800"/>
            <a:ext cx="8459640" cy="4483080"/>
            <a:chOff x="468360" y="1297800"/>
            <a:chExt cx="8459640" cy="4483080"/>
          </a:xfrm>
        </p:grpSpPr>
        <p:sp>
          <p:nvSpPr>
            <p:cNvPr id="560" name=""/>
            <p:cNvSpPr/>
            <p:nvPr/>
          </p:nvSpPr>
          <p:spPr>
            <a:xfrm>
              <a:off x="468360" y="1297800"/>
              <a:ext cx="8280360" cy="448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=1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边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垂直平分线分别交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于点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、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=6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求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E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周长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1"/>
            <a:stretch/>
          </p:blipFill>
          <p:spPr>
            <a:xfrm>
              <a:off x="5003640" y="1773360"/>
              <a:ext cx="3924360" cy="323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"/>
          <p:cNvSpPr/>
          <p:nvPr/>
        </p:nvSpPr>
        <p:spPr>
          <a:xfrm>
            <a:off x="752760" y="42300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63680" y="33710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直平分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85600" y="40600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=EB=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91800" y="4709520"/>
            <a:ext cx="64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周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B+EC+BC=6+6+10=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7667640" y="494172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752760" y="42300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grpSp>
        <p:nvGrpSpPr>
          <p:cNvPr id="571" name=""/>
          <p:cNvGrpSpPr/>
          <p:nvPr/>
        </p:nvGrpSpPr>
        <p:grpSpPr>
          <a:xfrm>
            <a:off x="179280" y="1052640"/>
            <a:ext cx="8713800" cy="5329080"/>
            <a:chOff x="179280" y="1052640"/>
            <a:chExt cx="8713800" cy="5329080"/>
          </a:xfrm>
        </p:grpSpPr>
        <p:sp>
          <p:nvSpPr>
            <p:cNvPr id="572" name=""/>
            <p:cNvSpPr/>
            <p:nvPr/>
          </p:nvSpPr>
          <p:spPr>
            <a:xfrm>
              <a:off x="179280" y="1052640"/>
              <a:ext cx="8713800" cy="532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0920" y="1899360"/>
              <a:ext cx="8424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如图，在△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中，∠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等于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zh-CN" sz="3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的中垂线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交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于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交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于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连接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若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平分∠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AC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找出图中相等的线段，并说说你的理由。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5003640" y="2781360"/>
              <a:ext cx="3600720" cy="2663640"/>
              <a:chOff x="5003640" y="2781360"/>
              <a:chExt cx="3600720" cy="2663640"/>
            </a:xfrm>
          </p:grpSpPr>
          <p:pic>
            <p:nvPicPr>
              <p:cNvPr id="5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781360"/>
                <a:ext cx="3600720" cy="266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6" name=""/>
              <p:cNvGrpSpPr/>
              <p:nvPr/>
            </p:nvGrpSpPr>
            <p:grpSpPr>
              <a:xfrm>
                <a:off x="6831000" y="3933360"/>
                <a:ext cx="208080" cy="287640"/>
                <a:chOff x="6831000" y="3933360"/>
                <a:chExt cx="208080" cy="287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935400" y="3933360"/>
                  <a:ext cx="103320" cy="172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>
                  <a:off x="6831000" y="4105800"/>
                  <a:ext cx="208080" cy="115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7689600" y="4587840"/>
                <a:ext cx="284400" cy="235080"/>
                <a:chOff x="7689600" y="4587840"/>
                <a:chExt cx="284400" cy="235080"/>
              </a:xfrm>
            </p:grpSpPr>
            <p:sp>
              <p:nvSpPr>
                <p:cNvPr id="580" name=""/>
                <p:cNvSpPr/>
                <p:nvPr/>
              </p:nvSpPr>
              <p:spPr>
                <a:xfrm flipV="1">
                  <a:off x="7710120" y="4622400"/>
                  <a:ext cx="13680" cy="200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V="1">
                  <a:off x="7689600" y="4587840"/>
                  <a:ext cx="284400" cy="34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812000" y="5445000"/>
            <a:ext cx="1047960" cy="895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1242360" y="378936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找到图中相等的角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04720" y="5084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找到图中特殊的三角形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7308720" y="0"/>
            <a:ext cx="1582920" cy="14335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5"/>
          <a:stretch/>
        </p:blipFill>
        <p:spPr>
          <a:xfrm>
            <a:off x="914400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0" y="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某一城市有三个居民住宅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了满足学生上学的需要，政府将修建一个高中，试问，该高中应建于何处，才能使得它到三个小区的距离相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0080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6200" y="4648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7456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00600" y="3200400"/>
            <a:ext cx="838080" cy="838080"/>
          </a:xfrm>
          <a:prstGeom prst="cloudCallout">
            <a:avLst>
              <a:gd name="adj1" fmla="val -21592"/>
              <a:gd name="adj2" fmla="val 704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1523880" cy="8510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7620120" y="5257800"/>
            <a:ext cx="1523880" cy="8510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228600" y="5181480"/>
            <a:ext cx="152388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3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59092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某一乡村公路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同侧，有两个农场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为了便于两个工厂的工人看病，乡政府计划在公路边上修建一所医院，使得它到两工厂的距离相等，试问医院的院址应选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8710560" y="4805280"/>
            <a:ext cx="204840" cy="4525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9031320" y="4724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5257800"/>
            <a:ext cx="9372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1905120" y="3852720"/>
            <a:ext cx="1447560" cy="1405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0" y="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059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60360" y="5867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2590920"/>
            <a:ext cx="685800" cy="609480"/>
          </a:xfrm>
          <a:prstGeom prst="cloudCallout">
            <a:avLst>
              <a:gd name="adj1" fmla="val -31944"/>
              <a:gd name="adj2" fmla="val 16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533520" y="304920"/>
            <a:ext cx="1574640" cy="15238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5"/>
          <a:stretch/>
        </p:blipFill>
        <p:spPr>
          <a:xfrm>
            <a:off x="6781680" y="2743200"/>
            <a:ext cx="1575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48120" y="166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线段的垂直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" y="5562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学问题源于生活实践，反过来数学又为生活实践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33520" y="1371600"/>
            <a:ext cx="7924680" cy="4863960"/>
            <a:chOff x="533520" y="1371600"/>
            <a:chExt cx="7924680" cy="4863960"/>
          </a:xfrm>
        </p:grpSpPr>
        <p:grpSp>
          <p:nvGrpSpPr>
            <p:cNvPr id="611" name=""/>
            <p:cNvGrpSpPr/>
            <p:nvPr/>
          </p:nvGrpSpPr>
          <p:grpSpPr>
            <a:xfrm>
              <a:off x="4367880" y="1371600"/>
              <a:ext cx="4090320" cy="4863960"/>
              <a:chOff x="4367880" y="1371600"/>
              <a:chExt cx="4090320" cy="4863960"/>
            </a:xfrm>
          </p:grpSpPr>
          <p:sp>
            <p:nvSpPr>
              <p:cNvPr id="612" name=""/>
              <p:cNvSpPr/>
              <p:nvPr/>
            </p:nvSpPr>
            <p:spPr>
              <a:xfrm>
                <a:off x="5638680" y="1371600"/>
                <a:ext cx="2819520" cy="2209680"/>
              </a:xfrm>
              <a:prstGeom prst="wedgeEllipseCallout">
                <a:avLst>
                  <a:gd name="adj1" fmla="val -183277"/>
                  <a:gd name="adj2" fmla="val 7413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思考题：问题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中，无论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、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的位置怎样，</a:t>
                </a: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l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上都存在一点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P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，</a:t>
                </a:r>
                <a:r>
                  <a:rPr b="1" lang="zh-CN" sz="1800" spc="-1" strike="noStrike">
                    <a:solidFill>
                      <a:srgbClr val="0000ff"/>
                    </a:solidFill>
                    <a:latin typeface="Times New Roman"/>
                  </a:rPr>
                  <a:t>使得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PA=PB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Times New Roman"/>
                  </a:rPr>
                  <a:t>？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367880" y="2209680"/>
                <a:ext cx="1163880" cy="40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900" spc="-1" strike="noStrike">
                    <a:solidFill>
                      <a:srgbClr val="ff0000"/>
                    </a:solidFill>
                    <a:latin typeface="Times New Roman"/>
                  </a:rPr>
                  <a:t>？</a:t>
                </a:r>
                <a:endParaRPr b="0" lang="en-US" sz="12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33520" y="2057400"/>
              <a:ext cx="3581280" cy="2773080"/>
              <a:chOff x="533520" y="2057400"/>
              <a:chExt cx="3581280" cy="2773080"/>
            </a:xfrm>
          </p:grpSpPr>
          <p:sp>
            <p:nvSpPr>
              <p:cNvPr id="615" name=""/>
              <p:cNvSpPr/>
              <p:nvPr/>
            </p:nvSpPr>
            <p:spPr>
              <a:xfrm>
                <a:off x="1398600" y="2595600"/>
                <a:ext cx="30240" cy="30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19480" y="3781440"/>
                <a:ext cx="30240" cy="31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533520" y="2359080"/>
                <a:ext cx="3581280" cy="2466360"/>
                <a:chOff x="533520" y="2359080"/>
                <a:chExt cx="3581280" cy="24663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735000" y="436572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33520" y="4192560"/>
                  <a:ext cx="358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992520" y="235908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383280" y="379260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1144440" y="2057400"/>
                <a:ext cx="2104920" cy="2773080"/>
                <a:chOff x="1144440" y="2057400"/>
                <a:chExt cx="2104920" cy="27730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1144440" y="3757680"/>
                  <a:ext cx="336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398600" y="2611440"/>
                  <a:ext cx="1850760" cy="118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1422360" y="2057400"/>
                  <a:ext cx="1603440" cy="266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6" name=""/>
                <p:cNvGrpSpPr/>
                <p:nvPr/>
              </p:nvGrpSpPr>
              <p:grpSpPr>
                <a:xfrm>
                  <a:off x="1525680" y="2282760"/>
                  <a:ext cx="1710720" cy="2547720"/>
                  <a:chOff x="1525680" y="2282760"/>
                  <a:chExt cx="1710720" cy="25477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2853000" y="2282760"/>
                    <a:ext cx="383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525680" y="4462200"/>
                    <a:ext cx="345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1547640" y="1700280"/>
            <a:ext cx="5904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同学们，再见！</a:t>
            </a:r>
            <a:endParaRPr b="1" lang="en-US" sz="2400" spc="1" strike="noStrike">
              <a:ln w="12600">
                <a:solidFill>
                  <a:srgbClr val="3366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0" y="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某一城市有三个居民住宅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为了满足学生上学的需要，政府将修建一个高中，试问，该高中应建于何处，才能使得它到三个小区的距离相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0080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16200" y="4648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77456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800600" y="3200400"/>
            <a:ext cx="838080" cy="838080"/>
          </a:xfrm>
          <a:prstGeom prst="cloudCallout">
            <a:avLst>
              <a:gd name="adj1" fmla="val -21592"/>
              <a:gd name="adj2" fmla="val 704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1523880" cy="85104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7620120" y="5257800"/>
            <a:ext cx="1523880" cy="85104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228600" y="5181480"/>
            <a:ext cx="1523880" cy="8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79280" y="1125360"/>
            <a:ext cx="8713800" cy="518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85284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折一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431640" y="1341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任意画一个角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沿角的两边将角剪下，将角对折，使角的两边重合，描出折痕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0920" y="242100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折痕上任意取一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5280" y="321300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过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边的垂线，得到新的折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将其描出，其中，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折痕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边的交点，即垂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5280" y="46148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将纸打开，新的折痕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边的交点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描出折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11920" y="2476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按下面的步骤进行操作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79280" y="1341360"/>
            <a:ext cx="8496360" cy="441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上述操作中，你发现了哪些相等的线段？把你的理由告诉大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868360" y="2781360"/>
            <a:ext cx="2577240" cy="2956320"/>
            <a:chOff x="5868360" y="2781360"/>
            <a:chExt cx="2577240" cy="2956320"/>
          </a:xfrm>
        </p:grpSpPr>
        <p:grpSp>
          <p:nvGrpSpPr>
            <p:cNvPr id="649" name=""/>
            <p:cNvGrpSpPr/>
            <p:nvPr/>
          </p:nvGrpSpPr>
          <p:grpSpPr>
            <a:xfrm>
              <a:off x="5868360" y="4186440"/>
              <a:ext cx="2254680" cy="398880"/>
              <a:chOff x="5868360" y="4186440"/>
              <a:chExt cx="2254680" cy="398880"/>
            </a:xfrm>
          </p:grpSpPr>
          <p:sp>
            <p:nvSpPr>
              <p:cNvPr id="650" name=""/>
              <p:cNvSpPr/>
              <p:nvPr/>
            </p:nvSpPr>
            <p:spPr>
              <a:xfrm>
                <a:off x="6558120" y="42292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5868360" y="4186440"/>
                <a:ext cx="2254680" cy="398880"/>
                <a:chOff x="5868360" y="4186440"/>
                <a:chExt cx="2254680" cy="398880"/>
              </a:xfrm>
            </p:grpSpPr>
            <p:sp>
              <p:nvSpPr>
                <p:cNvPr id="652" name=""/>
                <p:cNvSpPr/>
                <p:nvPr/>
              </p:nvSpPr>
              <p:spPr>
                <a:xfrm flipV="1">
                  <a:off x="5868360" y="4205520"/>
                  <a:ext cx="2254680" cy="6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255000" y="4186440"/>
                  <a:ext cx="431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4" name=""/>
            <p:cNvGrpSpPr/>
            <p:nvPr/>
          </p:nvGrpSpPr>
          <p:grpSpPr>
            <a:xfrm>
              <a:off x="5969160" y="2781360"/>
              <a:ext cx="2476440" cy="2956320"/>
              <a:chOff x="5969160" y="2781360"/>
              <a:chExt cx="2476440" cy="29563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6143040" y="3162240"/>
                <a:ext cx="2003400" cy="2187360"/>
                <a:chOff x="6143040" y="3162240"/>
                <a:chExt cx="2003400" cy="21873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6143040" y="3162240"/>
                  <a:ext cx="2003400" cy="103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193080" y="4199040"/>
                  <a:ext cx="1940040" cy="115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5969160" y="2781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085240" y="4013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039000" y="53388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6572520" y="3178440"/>
              <a:ext cx="647640" cy="2084760"/>
              <a:chOff x="6572520" y="3178440"/>
              <a:chExt cx="647640" cy="2084760"/>
            </a:xfrm>
          </p:grpSpPr>
          <p:sp>
            <p:nvSpPr>
              <p:cNvPr id="662" name=""/>
              <p:cNvSpPr/>
              <p:nvPr/>
            </p:nvSpPr>
            <p:spPr>
              <a:xfrm>
                <a:off x="6761160" y="3178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859800" y="486432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6572520" y="3578040"/>
                <a:ext cx="376200" cy="1329120"/>
                <a:chOff x="6572520" y="3578040"/>
                <a:chExt cx="376200" cy="13291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572520" y="4259520"/>
                  <a:ext cx="36036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V="1">
                  <a:off x="6573960" y="3578040"/>
                  <a:ext cx="374760" cy="64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7" name=""/>
          <p:cNvSpPr/>
          <p:nvPr/>
        </p:nvSpPr>
        <p:spPr>
          <a:xfrm>
            <a:off x="75276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找一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250920" y="3342960"/>
            <a:ext cx="511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角平分线的性质：角平分线上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这个角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距离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87012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395280" y="2276640"/>
            <a:ext cx="8136000" cy="16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角是轴对称图形，它的对称轴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81280" y="2997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角的平分线所在的直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380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交通标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1600200" cy="1179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1752840" cy="1168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629400" y="1357200"/>
            <a:ext cx="1828800" cy="108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" y="3025800"/>
            <a:ext cx="1676520" cy="108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3581280" y="2967120"/>
            <a:ext cx="1752840" cy="1200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657600" y="4746600"/>
            <a:ext cx="1752480" cy="1227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3505320" y="1346040"/>
            <a:ext cx="1752480" cy="116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1828800" cy="116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6705720" y="2994120"/>
            <a:ext cx="1752480" cy="122688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79280" y="907920"/>
            <a:ext cx="8640720" cy="54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012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971640" y="9079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已知：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角平分线上的一点，它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它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距离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069080" y="18082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3059280" y="2900520"/>
            <a:ext cx="2578680" cy="2956320"/>
            <a:chOff x="3059280" y="2900520"/>
            <a:chExt cx="2578680" cy="2956320"/>
          </a:xfrm>
        </p:grpSpPr>
        <p:sp>
          <p:nvSpPr>
            <p:cNvPr id="680" name=""/>
            <p:cNvSpPr/>
            <p:nvPr/>
          </p:nvSpPr>
          <p:spPr>
            <a:xfrm rot="10800000">
              <a:off x="4896000" y="435276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383280" y="4364640"/>
              <a:ext cx="2254680" cy="6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62520" y="40528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360240" y="3286080"/>
              <a:ext cx="2003400" cy="2187360"/>
              <a:chOff x="3360240" y="3286080"/>
              <a:chExt cx="2003400" cy="2187360"/>
            </a:xfrm>
          </p:grpSpPr>
          <p:sp>
            <p:nvSpPr>
              <p:cNvPr id="684" name=""/>
              <p:cNvSpPr/>
              <p:nvPr/>
            </p:nvSpPr>
            <p:spPr>
              <a:xfrm flipH="1" flipV="1">
                <a:off x="3360240" y="4438080"/>
                <a:ext cx="2003400" cy="103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73560" y="3286080"/>
                <a:ext cx="1940040" cy="115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5173560" y="5457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59280" y="42260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6960" y="29005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4557960" y="3727080"/>
              <a:ext cx="376200" cy="1329120"/>
              <a:chOff x="4557960" y="3727080"/>
              <a:chExt cx="376200" cy="1329120"/>
            </a:xfrm>
          </p:grpSpPr>
          <p:sp>
            <p:nvSpPr>
              <p:cNvPr id="690" name=""/>
              <p:cNvSpPr/>
              <p:nvPr/>
            </p:nvSpPr>
            <p:spPr>
              <a:xfrm flipH="1" flipV="1">
                <a:off x="4573800" y="3727080"/>
                <a:ext cx="36036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4557960" y="4407120"/>
                <a:ext cx="374760" cy="649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4716360" y="371808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59200" y="456732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615320" y="4755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请你来做指挥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1280" cy="52380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395280" y="1341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在一次军事演习中，红方侦察员发现蓝方指挥部设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内，到公路、铁路距离相等，且离公路与铁路交叉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如果你是红方指挥员，请你在图示的作战图上标出蓝方指挥部的位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310560" y="3505320"/>
            <a:ext cx="3377520" cy="2180880"/>
            <a:chOff x="3310560" y="3505320"/>
            <a:chExt cx="3377520" cy="2180880"/>
          </a:xfrm>
        </p:grpSpPr>
        <p:grpSp>
          <p:nvGrpSpPr>
            <p:cNvPr id="698" name=""/>
            <p:cNvGrpSpPr/>
            <p:nvPr/>
          </p:nvGrpSpPr>
          <p:grpSpPr>
            <a:xfrm>
              <a:off x="3310560" y="3505320"/>
              <a:ext cx="3377520" cy="2180880"/>
              <a:chOff x="3310560" y="3505320"/>
              <a:chExt cx="3377520" cy="2180880"/>
            </a:xfrm>
          </p:grpSpPr>
          <p:sp>
            <p:nvSpPr>
              <p:cNvPr id="699" name=""/>
              <p:cNvSpPr/>
              <p:nvPr/>
            </p:nvSpPr>
            <p:spPr>
              <a:xfrm rot="1483800">
                <a:off x="3273480" y="4149720"/>
                <a:ext cx="30970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221800">
                <a:off x="3201480" y="5013360"/>
                <a:ext cx="309744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369600" y="4869000"/>
                <a:ext cx="56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区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197760" y="41115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公路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02440" y="47829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铁路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5580360" y="41925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 flipH="1">
            <a:off x="2410920" y="4624560"/>
            <a:ext cx="324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625840" y="458136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4058280" y="3032640"/>
            <a:ext cx="144360" cy="2952720"/>
          </a:xfrm>
          <a:custGeom>
            <a:avLst/>
            <a:gdLst>
              <a:gd name="textAreaLeft" fmla="*/ 92160 w 144360"/>
              <a:gd name="textAreaRight" fmla="*/ 144360 w 144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987640" y="3645000"/>
            <a:ext cx="44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挥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78200" y="4076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5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43200" y="54450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例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∶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752760" y="259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 flipV="1">
            <a:off x="5364000" y="2552400"/>
            <a:ext cx="2087640" cy="1368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6024240" y="2865600"/>
            <a:ext cx="2089080" cy="5047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34080" y="1903320"/>
            <a:ext cx="144720" cy="180036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6141600" y="2537640"/>
            <a:ext cx="578160" cy="492480"/>
            <a:chOff x="6141600" y="2537640"/>
            <a:chExt cx="578160" cy="492480"/>
          </a:xfrm>
        </p:grpSpPr>
        <p:sp>
          <p:nvSpPr>
            <p:cNvPr id="717" name=""/>
            <p:cNvSpPr/>
            <p:nvPr/>
          </p:nvSpPr>
          <p:spPr>
            <a:xfrm flipH="1" flipV="1">
              <a:off x="6143760" y="2669760"/>
              <a:ext cx="576000" cy="360360"/>
            </a:xfrm>
            <a:prstGeom prst="line">
              <a:avLst/>
            </a:prstGeom>
            <a:ln w="316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8127800">
              <a:off x="6168600" y="2565000"/>
              <a:ext cx="144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6684840" y="30002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732720" y="3068640"/>
            <a:ext cx="288000" cy="576360"/>
            <a:chOff x="6732720" y="3068640"/>
            <a:chExt cx="288000" cy="576360"/>
          </a:xfrm>
        </p:grpSpPr>
        <p:sp>
          <p:nvSpPr>
            <p:cNvPr id="721" name=""/>
            <p:cNvSpPr/>
            <p:nvPr/>
          </p:nvSpPr>
          <p:spPr>
            <a:xfrm>
              <a:off x="6732720" y="3068640"/>
              <a:ext cx="144360" cy="576360"/>
            </a:xfrm>
            <a:prstGeom prst="line">
              <a:avLst/>
            </a:prstGeom>
            <a:ln w="316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664000">
              <a:off x="6859080" y="3471480"/>
              <a:ext cx="14472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732720" y="2378160"/>
            <a:ext cx="503280" cy="618840"/>
            <a:chOff x="6732720" y="2378160"/>
            <a:chExt cx="503280" cy="618840"/>
          </a:xfrm>
        </p:grpSpPr>
        <p:sp>
          <p:nvSpPr>
            <p:cNvPr id="724" name=""/>
            <p:cNvSpPr/>
            <p:nvPr/>
          </p:nvSpPr>
          <p:spPr>
            <a:xfrm flipV="1">
              <a:off x="6732720" y="2491920"/>
              <a:ext cx="503280" cy="505080"/>
            </a:xfrm>
            <a:prstGeom prst="line">
              <a:avLst/>
            </a:prstGeom>
            <a:ln w="3168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590800">
              <a:off x="7053120" y="2408040"/>
              <a:ext cx="144720" cy="1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458040" y="299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79280" y="1023480"/>
            <a:ext cx="8697600" cy="3486960"/>
            <a:chOff x="179280" y="1023480"/>
            <a:chExt cx="8697600" cy="3486960"/>
          </a:xfrm>
        </p:grpSpPr>
        <p:grpSp>
          <p:nvGrpSpPr>
            <p:cNvPr id="728" name=""/>
            <p:cNvGrpSpPr/>
            <p:nvPr/>
          </p:nvGrpSpPr>
          <p:grpSpPr>
            <a:xfrm>
              <a:off x="4853880" y="1023480"/>
              <a:ext cx="4023000" cy="3486960"/>
              <a:chOff x="4853880" y="1023480"/>
              <a:chExt cx="4023000" cy="3486960"/>
            </a:xfrm>
          </p:grpSpPr>
          <p:sp>
            <p:nvSpPr>
              <p:cNvPr id="729" name=""/>
              <p:cNvSpPr/>
              <p:nvPr/>
            </p:nvSpPr>
            <p:spPr>
              <a:xfrm rot="2658000">
                <a:off x="5403960" y="2454480"/>
                <a:ext cx="3992040" cy="137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7327200">
                <a:off x="3966840" y="2698920"/>
                <a:ext cx="4032000" cy="135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0151400">
                <a:off x="4858560" y="3626640"/>
                <a:ext cx="3992040" cy="137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179280" y="1542960"/>
              <a:ext cx="460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三条公路的交叉处为一个三角形区域，现在要在此区域内建一个加油站，使得该加油站到三条路的距离相等。请你运用所学知识，帮助设计者确定此加油站的位置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433440" y="1052640"/>
            <a:ext cx="84596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68360" y="249660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一个星期六，东岳中学初一年级的同学参加义务劳动，其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班的同学分别在道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旁参加劳动，另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班的同学在道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劳动，现要在道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交叉区域内设一个茶水供应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两条道路的距离相等，请你找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位置，并说明理由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65880" y="4314960"/>
            <a:ext cx="2800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32360" y="3956040"/>
            <a:ext cx="622440" cy="120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5487840" y="1557360"/>
            <a:ext cx="1244880" cy="28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40360" y="1787400"/>
            <a:ext cx="911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569360" y="4238640"/>
            <a:ext cx="909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1480" y="42300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011600" y="394560"/>
            <a:ext cx="5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谈一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44360" y="404640"/>
            <a:ext cx="617760" cy="6177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826920" y="177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角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轴对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形，且它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称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它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平分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在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28720" y="3505320"/>
            <a:ext cx="76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平分线的性质：角平分线上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这个角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距离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681480" y="423000"/>
            <a:ext cx="103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539640" y="2997360"/>
            <a:ext cx="810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设计一个轴对称图形，并找一个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使它满足到一个角的两边的距离都相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66560" y="1484280"/>
            <a:ext cx="810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课本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页，习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-158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某一城市有三个居民住宅小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为了满足学生上学的需要，政府将建造一所高中，试问，该高中应建于何处，才能使得它到三个小区的距离相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00800" y="533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16200" y="4648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7456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592360" y="3805200"/>
            <a:ext cx="1343160" cy="2671920"/>
            <a:chOff x="2592360" y="3805200"/>
            <a:chExt cx="1343160" cy="2671920"/>
          </a:xfrm>
        </p:grpSpPr>
        <p:sp>
          <p:nvSpPr>
            <p:cNvPr id="756" name=""/>
            <p:cNvSpPr/>
            <p:nvPr/>
          </p:nvSpPr>
          <p:spPr>
            <a:xfrm>
              <a:off x="3021120" y="3956040"/>
              <a:ext cx="525240" cy="582480"/>
            </a:xfrm>
            <a:custGeom>
              <a:avLst/>
              <a:gdLst/>
              <a:ahLst/>
              <a:rect l="l" t="t" r="r" b="b"/>
              <a:pathLst>
                <a:path w="663" h="735">
                  <a:moveTo>
                    <a:pt x="345" y="170"/>
                  </a:moveTo>
                  <a:lnTo>
                    <a:pt x="287" y="94"/>
                  </a:lnTo>
                  <a:lnTo>
                    <a:pt x="206" y="38"/>
                  </a:lnTo>
                  <a:lnTo>
                    <a:pt x="134" y="0"/>
                  </a:lnTo>
                  <a:lnTo>
                    <a:pt x="76" y="10"/>
                  </a:lnTo>
                  <a:lnTo>
                    <a:pt x="33" y="52"/>
                  </a:lnTo>
                  <a:lnTo>
                    <a:pt x="0" y="180"/>
                  </a:lnTo>
                  <a:lnTo>
                    <a:pt x="13" y="326"/>
                  </a:lnTo>
                  <a:lnTo>
                    <a:pt x="48" y="467"/>
                  </a:lnTo>
                  <a:lnTo>
                    <a:pt x="86" y="575"/>
                  </a:lnTo>
                  <a:lnTo>
                    <a:pt x="158" y="688"/>
                  </a:lnTo>
                  <a:lnTo>
                    <a:pt x="220" y="735"/>
                  </a:lnTo>
                  <a:lnTo>
                    <a:pt x="306" y="735"/>
                  </a:lnTo>
                  <a:lnTo>
                    <a:pt x="393" y="703"/>
                  </a:lnTo>
                  <a:lnTo>
                    <a:pt x="436" y="622"/>
                  </a:lnTo>
                  <a:lnTo>
                    <a:pt x="460" y="519"/>
                  </a:lnTo>
                  <a:lnTo>
                    <a:pt x="451" y="391"/>
                  </a:lnTo>
                  <a:lnTo>
                    <a:pt x="652" y="406"/>
                  </a:lnTo>
                  <a:lnTo>
                    <a:pt x="663" y="349"/>
                  </a:lnTo>
                  <a:lnTo>
                    <a:pt x="432" y="326"/>
                  </a:lnTo>
                  <a:lnTo>
                    <a:pt x="374" y="194"/>
                  </a:lnTo>
                  <a:lnTo>
                    <a:pt x="345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592360" y="3805200"/>
              <a:ext cx="606600" cy="934920"/>
            </a:xfrm>
            <a:custGeom>
              <a:avLst/>
              <a:gdLst/>
              <a:ahLst/>
              <a:rect l="l" t="t" r="r" b="b"/>
              <a:pathLst>
                <a:path w="762" h="1178">
                  <a:moveTo>
                    <a:pt x="445" y="27"/>
                  </a:moveTo>
                  <a:lnTo>
                    <a:pt x="541" y="0"/>
                  </a:lnTo>
                  <a:lnTo>
                    <a:pt x="617" y="4"/>
                  </a:lnTo>
                  <a:lnTo>
                    <a:pt x="675" y="46"/>
                  </a:lnTo>
                  <a:lnTo>
                    <a:pt x="715" y="113"/>
                  </a:lnTo>
                  <a:lnTo>
                    <a:pt x="700" y="182"/>
                  </a:lnTo>
                  <a:lnTo>
                    <a:pt x="646" y="182"/>
                  </a:lnTo>
                  <a:lnTo>
                    <a:pt x="661" y="126"/>
                  </a:lnTo>
                  <a:lnTo>
                    <a:pt x="617" y="75"/>
                  </a:lnTo>
                  <a:lnTo>
                    <a:pt x="575" y="56"/>
                  </a:lnTo>
                  <a:lnTo>
                    <a:pt x="503" y="75"/>
                  </a:lnTo>
                  <a:lnTo>
                    <a:pt x="532" y="132"/>
                  </a:lnTo>
                  <a:lnTo>
                    <a:pt x="541" y="182"/>
                  </a:lnTo>
                  <a:lnTo>
                    <a:pt x="532" y="226"/>
                  </a:lnTo>
                  <a:lnTo>
                    <a:pt x="459" y="245"/>
                  </a:lnTo>
                  <a:lnTo>
                    <a:pt x="383" y="230"/>
                  </a:lnTo>
                  <a:lnTo>
                    <a:pt x="368" y="197"/>
                  </a:lnTo>
                  <a:lnTo>
                    <a:pt x="287" y="287"/>
                  </a:lnTo>
                  <a:lnTo>
                    <a:pt x="239" y="385"/>
                  </a:lnTo>
                  <a:lnTo>
                    <a:pt x="172" y="513"/>
                  </a:lnTo>
                  <a:lnTo>
                    <a:pt x="129" y="626"/>
                  </a:lnTo>
                  <a:lnTo>
                    <a:pt x="110" y="734"/>
                  </a:lnTo>
                  <a:lnTo>
                    <a:pt x="125" y="791"/>
                  </a:lnTo>
                  <a:lnTo>
                    <a:pt x="201" y="862"/>
                  </a:lnTo>
                  <a:lnTo>
                    <a:pt x="359" y="923"/>
                  </a:lnTo>
                  <a:lnTo>
                    <a:pt x="445" y="950"/>
                  </a:lnTo>
                  <a:lnTo>
                    <a:pt x="532" y="965"/>
                  </a:lnTo>
                  <a:lnTo>
                    <a:pt x="661" y="1017"/>
                  </a:lnTo>
                  <a:lnTo>
                    <a:pt x="757" y="1050"/>
                  </a:lnTo>
                  <a:lnTo>
                    <a:pt x="762" y="1116"/>
                  </a:lnTo>
                  <a:lnTo>
                    <a:pt x="715" y="1163"/>
                  </a:lnTo>
                  <a:lnTo>
                    <a:pt x="657" y="1178"/>
                  </a:lnTo>
                  <a:lnTo>
                    <a:pt x="570" y="1134"/>
                  </a:lnTo>
                  <a:lnTo>
                    <a:pt x="368" y="1032"/>
                  </a:lnTo>
                  <a:lnTo>
                    <a:pt x="201" y="961"/>
                  </a:lnTo>
                  <a:lnTo>
                    <a:pt x="85" y="881"/>
                  </a:lnTo>
                  <a:lnTo>
                    <a:pt x="9" y="810"/>
                  </a:lnTo>
                  <a:lnTo>
                    <a:pt x="0" y="724"/>
                  </a:lnTo>
                  <a:lnTo>
                    <a:pt x="42" y="611"/>
                  </a:lnTo>
                  <a:lnTo>
                    <a:pt x="129" y="442"/>
                  </a:lnTo>
                  <a:lnTo>
                    <a:pt x="210" y="301"/>
                  </a:lnTo>
                  <a:lnTo>
                    <a:pt x="312" y="155"/>
                  </a:lnTo>
                  <a:lnTo>
                    <a:pt x="388" y="69"/>
                  </a:lnTo>
                  <a:lnTo>
                    <a:pt x="484" y="27"/>
                  </a:lnTo>
                  <a:lnTo>
                    <a:pt x="44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64040" y="4581360"/>
              <a:ext cx="315720" cy="878040"/>
            </a:xfrm>
            <a:custGeom>
              <a:avLst/>
              <a:gdLst/>
              <a:ahLst/>
              <a:rect l="l" t="t" r="r" b="b"/>
              <a:pathLst>
                <a:path w="399" h="1106">
                  <a:moveTo>
                    <a:pt x="25" y="86"/>
                  </a:moveTo>
                  <a:lnTo>
                    <a:pt x="39" y="29"/>
                  </a:lnTo>
                  <a:lnTo>
                    <a:pt x="101" y="0"/>
                  </a:lnTo>
                  <a:lnTo>
                    <a:pt x="158" y="0"/>
                  </a:lnTo>
                  <a:lnTo>
                    <a:pt x="230" y="43"/>
                  </a:lnTo>
                  <a:lnTo>
                    <a:pt x="298" y="143"/>
                  </a:lnTo>
                  <a:lnTo>
                    <a:pt x="346" y="245"/>
                  </a:lnTo>
                  <a:lnTo>
                    <a:pt x="370" y="386"/>
                  </a:lnTo>
                  <a:lnTo>
                    <a:pt x="390" y="551"/>
                  </a:lnTo>
                  <a:lnTo>
                    <a:pt x="399" y="711"/>
                  </a:lnTo>
                  <a:lnTo>
                    <a:pt x="399" y="918"/>
                  </a:lnTo>
                  <a:lnTo>
                    <a:pt x="370" y="1045"/>
                  </a:lnTo>
                  <a:lnTo>
                    <a:pt x="317" y="1092"/>
                  </a:lnTo>
                  <a:lnTo>
                    <a:pt x="226" y="1106"/>
                  </a:lnTo>
                  <a:lnTo>
                    <a:pt x="130" y="1102"/>
                  </a:lnTo>
                  <a:lnTo>
                    <a:pt x="81" y="1045"/>
                  </a:lnTo>
                  <a:lnTo>
                    <a:pt x="54" y="947"/>
                  </a:lnTo>
                  <a:lnTo>
                    <a:pt x="29" y="848"/>
                  </a:lnTo>
                  <a:lnTo>
                    <a:pt x="10" y="669"/>
                  </a:lnTo>
                  <a:lnTo>
                    <a:pt x="0" y="467"/>
                  </a:lnTo>
                  <a:lnTo>
                    <a:pt x="0" y="231"/>
                  </a:lnTo>
                  <a:lnTo>
                    <a:pt x="25" y="128"/>
                  </a:lnTo>
                  <a:lnTo>
                    <a:pt x="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309840" y="4605480"/>
              <a:ext cx="482760" cy="674640"/>
            </a:xfrm>
            <a:custGeom>
              <a:avLst/>
              <a:gdLst/>
              <a:ahLst/>
              <a:rect l="l" t="t" r="r" b="b"/>
              <a:pathLst>
                <a:path w="609" h="849">
                  <a:moveTo>
                    <a:pt x="33" y="0"/>
                  </a:moveTo>
                  <a:lnTo>
                    <a:pt x="158" y="14"/>
                  </a:lnTo>
                  <a:lnTo>
                    <a:pt x="287" y="38"/>
                  </a:lnTo>
                  <a:lnTo>
                    <a:pt x="422" y="113"/>
                  </a:lnTo>
                  <a:lnTo>
                    <a:pt x="517" y="169"/>
                  </a:lnTo>
                  <a:lnTo>
                    <a:pt x="580" y="251"/>
                  </a:lnTo>
                  <a:lnTo>
                    <a:pt x="609" y="297"/>
                  </a:lnTo>
                  <a:lnTo>
                    <a:pt x="551" y="435"/>
                  </a:lnTo>
                  <a:lnTo>
                    <a:pt x="459" y="519"/>
                  </a:lnTo>
                  <a:lnTo>
                    <a:pt x="349" y="580"/>
                  </a:lnTo>
                  <a:lnTo>
                    <a:pt x="291" y="617"/>
                  </a:lnTo>
                  <a:lnTo>
                    <a:pt x="191" y="636"/>
                  </a:lnTo>
                  <a:lnTo>
                    <a:pt x="187" y="674"/>
                  </a:lnTo>
                  <a:lnTo>
                    <a:pt x="264" y="707"/>
                  </a:lnTo>
                  <a:lnTo>
                    <a:pt x="374" y="736"/>
                  </a:lnTo>
                  <a:lnTo>
                    <a:pt x="478" y="793"/>
                  </a:lnTo>
                  <a:lnTo>
                    <a:pt x="436" y="835"/>
                  </a:lnTo>
                  <a:lnTo>
                    <a:pt x="393" y="849"/>
                  </a:lnTo>
                  <a:lnTo>
                    <a:pt x="330" y="787"/>
                  </a:lnTo>
                  <a:lnTo>
                    <a:pt x="235" y="749"/>
                  </a:lnTo>
                  <a:lnTo>
                    <a:pt x="158" y="722"/>
                  </a:lnTo>
                  <a:lnTo>
                    <a:pt x="158" y="665"/>
                  </a:lnTo>
                  <a:lnTo>
                    <a:pt x="172" y="604"/>
                  </a:lnTo>
                  <a:lnTo>
                    <a:pt x="220" y="580"/>
                  </a:lnTo>
                  <a:lnTo>
                    <a:pt x="374" y="519"/>
                  </a:lnTo>
                  <a:lnTo>
                    <a:pt x="459" y="425"/>
                  </a:lnTo>
                  <a:lnTo>
                    <a:pt x="522" y="326"/>
                  </a:lnTo>
                  <a:lnTo>
                    <a:pt x="507" y="278"/>
                  </a:lnTo>
                  <a:lnTo>
                    <a:pt x="459" y="222"/>
                  </a:lnTo>
                  <a:lnTo>
                    <a:pt x="345" y="142"/>
                  </a:lnTo>
                  <a:lnTo>
                    <a:pt x="206" y="113"/>
                  </a:lnTo>
                  <a:lnTo>
                    <a:pt x="114" y="109"/>
                  </a:lnTo>
                  <a:lnTo>
                    <a:pt x="33" y="109"/>
                  </a:lnTo>
                  <a:lnTo>
                    <a:pt x="0" y="5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48000" y="5369040"/>
              <a:ext cx="587520" cy="1089000"/>
            </a:xfrm>
            <a:custGeom>
              <a:avLst/>
              <a:gdLst/>
              <a:ahLst/>
              <a:rect l="l" t="t" r="r" b="b"/>
              <a:pathLst>
                <a:path w="741" h="1373">
                  <a:moveTo>
                    <a:pt x="85" y="0"/>
                  </a:moveTo>
                  <a:lnTo>
                    <a:pt x="19" y="0"/>
                  </a:lnTo>
                  <a:lnTo>
                    <a:pt x="0" y="99"/>
                  </a:lnTo>
                  <a:lnTo>
                    <a:pt x="48" y="157"/>
                  </a:lnTo>
                  <a:lnTo>
                    <a:pt x="201" y="293"/>
                  </a:lnTo>
                  <a:lnTo>
                    <a:pt x="336" y="467"/>
                  </a:lnTo>
                  <a:lnTo>
                    <a:pt x="423" y="647"/>
                  </a:lnTo>
                  <a:lnTo>
                    <a:pt x="436" y="764"/>
                  </a:lnTo>
                  <a:lnTo>
                    <a:pt x="432" y="850"/>
                  </a:lnTo>
                  <a:lnTo>
                    <a:pt x="394" y="1042"/>
                  </a:lnTo>
                  <a:lnTo>
                    <a:pt x="345" y="1199"/>
                  </a:lnTo>
                  <a:lnTo>
                    <a:pt x="303" y="1289"/>
                  </a:lnTo>
                  <a:lnTo>
                    <a:pt x="293" y="1345"/>
                  </a:lnTo>
                  <a:lnTo>
                    <a:pt x="336" y="1345"/>
                  </a:lnTo>
                  <a:lnTo>
                    <a:pt x="403" y="1326"/>
                  </a:lnTo>
                  <a:lnTo>
                    <a:pt x="423" y="1331"/>
                  </a:lnTo>
                  <a:lnTo>
                    <a:pt x="562" y="1339"/>
                  </a:lnTo>
                  <a:lnTo>
                    <a:pt x="668" y="1373"/>
                  </a:lnTo>
                  <a:lnTo>
                    <a:pt x="706" y="1354"/>
                  </a:lnTo>
                  <a:lnTo>
                    <a:pt x="741" y="1283"/>
                  </a:lnTo>
                  <a:lnTo>
                    <a:pt x="706" y="1245"/>
                  </a:lnTo>
                  <a:lnTo>
                    <a:pt x="548" y="1241"/>
                  </a:lnTo>
                  <a:lnTo>
                    <a:pt x="436" y="1255"/>
                  </a:lnTo>
                  <a:lnTo>
                    <a:pt x="380" y="1283"/>
                  </a:lnTo>
                  <a:lnTo>
                    <a:pt x="388" y="1218"/>
                  </a:lnTo>
                  <a:lnTo>
                    <a:pt x="446" y="1118"/>
                  </a:lnTo>
                  <a:lnTo>
                    <a:pt x="494" y="963"/>
                  </a:lnTo>
                  <a:lnTo>
                    <a:pt x="533" y="831"/>
                  </a:lnTo>
                  <a:lnTo>
                    <a:pt x="504" y="680"/>
                  </a:lnTo>
                  <a:lnTo>
                    <a:pt x="461" y="519"/>
                  </a:lnTo>
                  <a:lnTo>
                    <a:pt x="374" y="335"/>
                  </a:lnTo>
                  <a:lnTo>
                    <a:pt x="249" y="166"/>
                  </a:lnTo>
                  <a:lnTo>
                    <a:pt x="143" y="42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78280" y="5367240"/>
              <a:ext cx="396720" cy="1109880"/>
            </a:xfrm>
            <a:custGeom>
              <a:avLst/>
              <a:gdLst/>
              <a:ahLst/>
              <a:rect l="l" t="t" r="r" b="b"/>
              <a:pathLst>
                <a:path w="498" h="1399">
                  <a:moveTo>
                    <a:pt x="345" y="0"/>
                  </a:moveTo>
                  <a:lnTo>
                    <a:pt x="282" y="132"/>
                  </a:lnTo>
                  <a:lnTo>
                    <a:pt x="239" y="325"/>
                  </a:lnTo>
                  <a:lnTo>
                    <a:pt x="187" y="538"/>
                  </a:lnTo>
                  <a:lnTo>
                    <a:pt x="139" y="754"/>
                  </a:lnTo>
                  <a:lnTo>
                    <a:pt x="139" y="834"/>
                  </a:lnTo>
                  <a:lnTo>
                    <a:pt x="187" y="976"/>
                  </a:lnTo>
                  <a:lnTo>
                    <a:pt x="253" y="1051"/>
                  </a:lnTo>
                  <a:lnTo>
                    <a:pt x="316" y="1145"/>
                  </a:lnTo>
                  <a:lnTo>
                    <a:pt x="359" y="1215"/>
                  </a:lnTo>
                  <a:lnTo>
                    <a:pt x="340" y="1248"/>
                  </a:lnTo>
                  <a:lnTo>
                    <a:pt x="230" y="1263"/>
                  </a:lnTo>
                  <a:lnTo>
                    <a:pt x="52" y="1290"/>
                  </a:lnTo>
                  <a:lnTo>
                    <a:pt x="0" y="1334"/>
                  </a:lnTo>
                  <a:lnTo>
                    <a:pt x="43" y="1371"/>
                  </a:lnTo>
                  <a:lnTo>
                    <a:pt x="143" y="1399"/>
                  </a:lnTo>
                  <a:lnTo>
                    <a:pt x="259" y="1342"/>
                  </a:lnTo>
                  <a:lnTo>
                    <a:pt x="345" y="1305"/>
                  </a:lnTo>
                  <a:lnTo>
                    <a:pt x="455" y="1290"/>
                  </a:lnTo>
                  <a:lnTo>
                    <a:pt x="498" y="1277"/>
                  </a:lnTo>
                  <a:lnTo>
                    <a:pt x="484" y="1229"/>
                  </a:lnTo>
                  <a:lnTo>
                    <a:pt x="359" y="1108"/>
                  </a:lnTo>
                  <a:lnTo>
                    <a:pt x="287" y="980"/>
                  </a:lnTo>
                  <a:lnTo>
                    <a:pt x="224" y="895"/>
                  </a:lnTo>
                  <a:lnTo>
                    <a:pt x="215" y="811"/>
                  </a:lnTo>
                  <a:lnTo>
                    <a:pt x="244" y="670"/>
                  </a:lnTo>
                  <a:lnTo>
                    <a:pt x="311" y="524"/>
                  </a:lnTo>
                  <a:lnTo>
                    <a:pt x="384" y="274"/>
                  </a:lnTo>
                  <a:lnTo>
                    <a:pt x="446" y="128"/>
                  </a:lnTo>
                  <a:lnTo>
                    <a:pt x="440" y="42"/>
                  </a:lnTo>
                  <a:lnTo>
                    <a:pt x="384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402000" y="3583080"/>
            <a:ext cx="243000" cy="328680"/>
            <a:chOff x="3402000" y="3583080"/>
            <a:chExt cx="243000" cy="328680"/>
          </a:xfrm>
        </p:grpSpPr>
        <p:sp>
          <p:nvSpPr>
            <p:cNvPr id="763" name=""/>
            <p:cNvSpPr/>
            <p:nvPr/>
          </p:nvSpPr>
          <p:spPr>
            <a:xfrm>
              <a:off x="3449520" y="3583080"/>
              <a:ext cx="195480" cy="228600"/>
            </a:xfrm>
            <a:custGeom>
              <a:avLst/>
              <a:gdLst/>
              <a:ahLst/>
              <a:rect l="l" t="t" r="r" b="b"/>
              <a:pathLst>
                <a:path w="247" h="287">
                  <a:moveTo>
                    <a:pt x="29" y="13"/>
                  </a:moveTo>
                  <a:lnTo>
                    <a:pt x="96" y="0"/>
                  </a:lnTo>
                  <a:lnTo>
                    <a:pt x="160" y="4"/>
                  </a:lnTo>
                  <a:lnTo>
                    <a:pt x="218" y="32"/>
                  </a:lnTo>
                  <a:lnTo>
                    <a:pt x="247" y="84"/>
                  </a:lnTo>
                  <a:lnTo>
                    <a:pt x="247" y="126"/>
                  </a:lnTo>
                  <a:lnTo>
                    <a:pt x="218" y="183"/>
                  </a:lnTo>
                  <a:lnTo>
                    <a:pt x="169" y="216"/>
                  </a:lnTo>
                  <a:lnTo>
                    <a:pt x="96" y="216"/>
                  </a:lnTo>
                  <a:lnTo>
                    <a:pt x="53" y="243"/>
                  </a:lnTo>
                  <a:lnTo>
                    <a:pt x="38" y="287"/>
                  </a:lnTo>
                  <a:lnTo>
                    <a:pt x="0" y="272"/>
                  </a:lnTo>
                  <a:lnTo>
                    <a:pt x="15" y="216"/>
                  </a:lnTo>
                  <a:lnTo>
                    <a:pt x="67" y="183"/>
                  </a:lnTo>
                  <a:lnTo>
                    <a:pt x="154" y="174"/>
                  </a:lnTo>
                  <a:lnTo>
                    <a:pt x="189" y="140"/>
                  </a:lnTo>
                  <a:lnTo>
                    <a:pt x="198" y="88"/>
                  </a:lnTo>
                  <a:lnTo>
                    <a:pt x="160" y="42"/>
                  </a:lnTo>
                  <a:lnTo>
                    <a:pt x="102" y="42"/>
                  </a:lnTo>
                  <a:lnTo>
                    <a:pt x="38" y="56"/>
                  </a:lnTo>
                  <a:lnTo>
                    <a:pt x="15" y="42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02000" y="3849840"/>
              <a:ext cx="60480" cy="6192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77" y="4"/>
                  </a:moveTo>
                  <a:lnTo>
                    <a:pt x="38" y="0"/>
                  </a:lnTo>
                  <a:lnTo>
                    <a:pt x="12" y="29"/>
                  </a:lnTo>
                  <a:lnTo>
                    <a:pt x="0" y="74"/>
                  </a:lnTo>
                  <a:lnTo>
                    <a:pt x="38" y="78"/>
                  </a:lnTo>
                  <a:lnTo>
                    <a:pt x="70" y="58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7620120" y="5334120"/>
            <a:ext cx="1523880" cy="85068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1523880" cy="85068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3"/>
          <a:stretch/>
        </p:blipFill>
        <p:spPr>
          <a:xfrm>
            <a:off x="4800600" y="228600"/>
            <a:ext cx="1523880" cy="8510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4"/>
          <a:stretch/>
        </p:blipFill>
        <p:spPr>
          <a:xfrm>
            <a:off x="3924360" y="278136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9343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259092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某一乡村公路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同侧，有两个农场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为了便于两个工厂的工人看病，乡政府计划在公路边上修建一所医院，使得它到两工厂的距离相等，试问医院的院址应选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8077320" y="4805280"/>
            <a:ext cx="204840" cy="452520"/>
          </a:xfrm>
          <a:prstGeom prst="rect">
            <a:avLst/>
          </a:prstGeom>
          <a:ln w="0">
            <a:noFill/>
          </a:ln>
        </p:spPr>
      </p:pic>
      <p:grpSp>
        <p:nvGrpSpPr>
          <p:cNvPr id="773" name=""/>
          <p:cNvGrpSpPr/>
          <p:nvPr/>
        </p:nvGrpSpPr>
        <p:grpSpPr>
          <a:xfrm>
            <a:off x="8305920" y="4267080"/>
            <a:ext cx="533160" cy="990720"/>
            <a:chOff x="8305920" y="4267080"/>
            <a:chExt cx="533160" cy="990720"/>
          </a:xfrm>
        </p:grpSpPr>
        <p:sp>
          <p:nvSpPr>
            <p:cNvPr id="774" name=""/>
            <p:cNvSpPr/>
            <p:nvPr/>
          </p:nvSpPr>
          <p:spPr>
            <a:xfrm>
              <a:off x="8574120" y="472428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0" y="5257800"/>
            <a:ext cx="93726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-2743200" y="5562720"/>
            <a:ext cx="609480" cy="352440"/>
          </a:xfrm>
          <a:prstGeom prst="rect">
            <a:avLst/>
          </a:prstGeom>
          <a:ln w="0">
            <a:noFill/>
          </a:ln>
        </p:spPr>
      </p:pic>
      <p:grpSp>
        <p:nvGrpSpPr>
          <p:cNvPr id="777" name=""/>
          <p:cNvGrpSpPr/>
          <p:nvPr/>
        </p:nvGrpSpPr>
        <p:grpSpPr>
          <a:xfrm>
            <a:off x="-1905120" y="5562720"/>
            <a:ext cx="1524240" cy="380880"/>
            <a:chOff x="-1905120" y="5562720"/>
            <a:chExt cx="1524240" cy="380880"/>
          </a:xfrm>
        </p:grpSpPr>
        <p:pic>
          <p:nvPicPr>
            <p:cNvPr id="778" name="" descr=""/>
            <p:cNvPicPr/>
            <p:nvPr/>
          </p:nvPicPr>
          <p:blipFill>
            <a:blip r:embed="rId5"/>
            <a:stretch/>
          </p:blipFill>
          <p:spPr>
            <a:xfrm>
              <a:off x="-990360" y="5562720"/>
              <a:ext cx="6094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6"/>
            <a:stretch/>
          </p:blipFill>
          <p:spPr>
            <a:xfrm>
              <a:off x="-1905120" y="5562720"/>
              <a:ext cx="609480" cy="352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0" name="" descr=""/>
          <p:cNvPicPr/>
          <p:nvPr/>
        </p:nvPicPr>
        <p:blipFill>
          <a:blip r:embed="rId7"/>
          <a:stretch/>
        </p:blipFill>
        <p:spPr>
          <a:xfrm>
            <a:off x="2209680" y="4444920"/>
            <a:ext cx="838440" cy="8128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0" y="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3059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160" y="4800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问题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86" name=""/>
          <p:cNvGrpSpPr/>
          <p:nvPr/>
        </p:nvGrpSpPr>
        <p:grpSpPr>
          <a:xfrm>
            <a:off x="882720" y="4467240"/>
            <a:ext cx="1201680" cy="2390760"/>
            <a:chOff x="882720" y="4467240"/>
            <a:chExt cx="1201680" cy="2390760"/>
          </a:xfrm>
        </p:grpSpPr>
        <p:sp>
          <p:nvSpPr>
            <p:cNvPr id="787" name=""/>
            <p:cNvSpPr/>
            <p:nvPr/>
          </p:nvSpPr>
          <p:spPr>
            <a:xfrm>
              <a:off x="1266840" y="4602240"/>
              <a:ext cx="469800" cy="520560"/>
            </a:xfrm>
            <a:custGeom>
              <a:avLst/>
              <a:gdLst/>
              <a:ahLst/>
              <a:rect l="l" t="t" r="r" b="b"/>
              <a:pathLst>
                <a:path w="593" h="658">
                  <a:moveTo>
                    <a:pt x="309" y="152"/>
                  </a:moveTo>
                  <a:lnTo>
                    <a:pt x="257" y="85"/>
                  </a:lnTo>
                  <a:lnTo>
                    <a:pt x="184" y="34"/>
                  </a:lnTo>
                  <a:lnTo>
                    <a:pt x="120" y="0"/>
                  </a:lnTo>
                  <a:lnTo>
                    <a:pt x="68" y="10"/>
                  </a:lnTo>
                  <a:lnTo>
                    <a:pt x="30" y="47"/>
                  </a:lnTo>
                  <a:lnTo>
                    <a:pt x="0" y="161"/>
                  </a:lnTo>
                  <a:lnTo>
                    <a:pt x="12" y="292"/>
                  </a:lnTo>
                  <a:lnTo>
                    <a:pt x="43" y="418"/>
                  </a:lnTo>
                  <a:lnTo>
                    <a:pt x="77" y="515"/>
                  </a:lnTo>
                  <a:lnTo>
                    <a:pt x="142" y="616"/>
                  </a:lnTo>
                  <a:lnTo>
                    <a:pt x="197" y="658"/>
                  </a:lnTo>
                  <a:lnTo>
                    <a:pt x="274" y="658"/>
                  </a:lnTo>
                  <a:lnTo>
                    <a:pt x="352" y="629"/>
                  </a:lnTo>
                  <a:lnTo>
                    <a:pt x="391" y="557"/>
                  </a:lnTo>
                  <a:lnTo>
                    <a:pt x="412" y="465"/>
                  </a:lnTo>
                  <a:lnTo>
                    <a:pt x="404" y="351"/>
                  </a:lnTo>
                  <a:lnTo>
                    <a:pt x="584" y="364"/>
                  </a:lnTo>
                  <a:lnTo>
                    <a:pt x="593" y="313"/>
                  </a:lnTo>
                  <a:lnTo>
                    <a:pt x="387" y="292"/>
                  </a:lnTo>
                  <a:lnTo>
                    <a:pt x="335" y="174"/>
                  </a:lnTo>
                  <a:lnTo>
                    <a:pt x="309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82720" y="4467240"/>
              <a:ext cx="542880" cy="838080"/>
            </a:xfrm>
            <a:custGeom>
              <a:avLst/>
              <a:gdLst/>
              <a:ahLst/>
              <a:rect l="l" t="t" r="r" b="b"/>
              <a:pathLst>
                <a:path w="682" h="1054">
                  <a:moveTo>
                    <a:pt x="398" y="25"/>
                  </a:moveTo>
                  <a:lnTo>
                    <a:pt x="484" y="0"/>
                  </a:lnTo>
                  <a:lnTo>
                    <a:pt x="552" y="4"/>
                  </a:lnTo>
                  <a:lnTo>
                    <a:pt x="604" y="41"/>
                  </a:lnTo>
                  <a:lnTo>
                    <a:pt x="639" y="101"/>
                  </a:lnTo>
                  <a:lnTo>
                    <a:pt x="626" y="163"/>
                  </a:lnTo>
                  <a:lnTo>
                    <a:pt x="578" y="163"/>
                  </a:lnTo>
                  <a:lnTo>
                    <a:pt x="591" y="113"/>
                  </a:lnTo>
                  <a:lnTo>
                    <a:pt x="552" y="67"/>
                  </a:lnTo>
                  <a:lnTo>
                    <a:pt x="515" y="50"/>
                  </a:lnTo>
                  <a:lnTo>
                    <a:pt x="450" y="67"/>
                  </a:lnTo>
                  <a:lnTo>
                    <a:pt x="476" y="118"/>
                  </a:lnTo>
                  <a:lnTo>
                    <a:pt x="484" y="163"/>
                  </a:lnTo>
                  <a:lnTo>
                    <a:pt x="476" y="202"/>
                  </a:lnTo>
                  <a:lnTo>
                    <a:pt x="411" y="219"/>
                  </a:lnTo>
                  <a:lnTo>
                    <a:pt x="342" y="206"/>
                  </a:lnTo>
                  <a:lnTo>
                    <a:pt x="329" y="176"/>
                  </a:lnTo>
                  <a:lnTo>
                    <a:pt x="256" y="257"/>
                  </a:lnTo>
                  <a:lnTo>
                    <a:pt x="214" y="345"/>
                  </a:lnTo>
                  <a:lnTo>
                    <a:pt x="154" y="459"/>
                  </a:lnTo>
                  <a:lnTo>
                    <a:pt x="115" y="560"/>
                  </a:lnTo>
                  <a:lnTo>
                    <a:pt x="98" y="657"/>
                  </a:lnTo>
                  <a:lnTo>
                    <a:pt x="111" y="708"/>
                  </a:lnTo>
                  <a:lnTo>
                    <a:pt x="180" y="771"/>
                  </a:lnTo>
                  <a:lnTo>
                    <a:pt x="321" y="826"/>
                  </a:lnTo>
                  <a:lnTo>
                    <a:pt x="398" y="851"/>
                  </a:lnTo>
                  <a:lnTo>
                    <a:pt x="476" y="864"/>
                  </a:lnTo>
                  <a:lnTo>
                    <a:pt x="591" y="910"/>
                  </a:lnTo>
                  <a:lnTo>
                    <a:pt x="677" y="940"/>
                  </a:lnTo>
                  <a:lnTo>
                    <a:pt x="682" y="998"/>
                  </a:lnTo>
                  <a:lnTo>
                    <a:pt x="639" y="1041"/>
                  </a:lnTo>
                  <a:lnTo>
                    <a:pt x="587" y="1054"/>
                  </a:lnTo>
                  <a:lnTo>
                    <a:pt x="509" y="1015"/>
                  </a:lnTo>
                  <a:lnTo>
                    <a:pt x="329" y="923"/>
                  </a:lnTo>
                  <a:lnTo>
                    <a:pt x="180" y="860"/>
                  </a:lnTo>
                  <a:lnTo>
                    <a:pt x="76" y="788"/>
                  </a:lnTo>
                  <a:lnTo>
                    <a:pt x="7" y="725"/>
                  </a:lnTo>
                  <a:lnTo>
                    <a:pt x="0" y="648"/>
                  </a:lnTo>
                  <a:lnTo>
                    <a:pt x="37" y="547"/>
                  </a:lnTo>
                  <a:lnTo>
                    <a:pt x="115" y="395"/>
                  </a:lnTo>
                  <a:lnTo>
                    <a:pt x="188" y="270"/>
                  </a:lnTo>
                  <a:lnTo>
                    <a:pt x="279" y="139"/>
                  </a:lnTo>
                  <a:lnTo>
                    <a:pt x="347" y="62"/>
                  </a:lnTo>
                  <a:lnTo>
                    <a:pt x="433" y="25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93920" y="5160960"/>
              <a:ext cx="282600" cy="785880"/>
            </a:xfrm>
            <a:custGeom>
              <a:avLst/>
              <a:gdLst/>
              <a:ahLst/>
              <a:rect l="l" t="t" r="r" b="b"/>
              <a:pathLst>
                <a:path w="357" h="989">
                  <a:moveTo>
                    <a:pt x="22" y="76"/>
                  </a:moveTo>
                  <a:lnTo>
                    <a:pt x="35" y="26"/>
                  </a:lnTo>
                  <a:lnTo>
                    <a:pt x="91" y="0"/>
                  </a:lnTo>
                  <a:lnTo>
                    <a:pt x="142" y="0"/>
                  </a:lnTo>
                  <a:lnTo>
                    <a:pt x="206" y="38"/>
                  </a:lnTo>
                  <a:lnTo>
                    <a:pt x="267" y="127"/>
                  </a:lnTo>
                  <a:lnTo>
                    <a:pt x="310" y="219"/>
                  </a:lnTo>
                  <a:lnTo>
                    <a:pt x="331" y="345"/>
                  </a:lnTo>
                  <a:lnTo>
                    <a:pt x="349" y="493"/>
                  </a:lnTo>
                  <a:lnTo>
                    <a:pt x="357" y="635"/>
                  </a:lnTo>
                  <a:lnTo>
                    <a:pt x="357" y="821"/>
                  </a:lnTo>
                  <a:lnTo>
                    <a:pt x="331" y="935"/>
                  </a:lnTo>
                  <a:lnTo>
                    <a:pt x="284" y="976"/>
                  </a:lnTo>
                  <a:lnTo>
                    <a:pt x="203" y="989"/>
                  </a:lnTo>
                  <a:lnTo>
                    <a:pt x="117" y="985"/>
                  </a:lnTo>
                  <a:lnTo>
                    <a:pt x="73" y="935"/>
                  </a:lnTo>
                  <a:lnTo>
                    <a:pt x="48" y="847"/>
                  </a:lnTo>
                  <a:lnTo>
                    <a:pt x="26" y="759"/>
                  </a:lnTo>
                  <a:lnTo>
                    <a:pt x="9" y="598"/>
                  </a:lnTo>
                  <a:lnTo>
                    <a:pt x="0" y="417"/>
                  </a:lnTo>
                  <a:lnTo>
                    <a:pt x="0" y="206"/>
                  </a:lnTo>
                  <a:lnTo>
                    <a:pt x="22" y="114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23880" y="5183280"/>
              <a:ext cx="433440" cy="603000"/>
            </a:xfrm>
            <a:custGeom>
              <a:avLst/>
              <a:gdLst/>
              <a:ahLst/>
              <a:rect l="l" t="t" r="r" b="b"/>
              <a:pathLst>
                <a:path w="545" h="760">
                  <a:moveTo>
                    <a:pt x="30" y="0"/>
                  </a:moveTo>
                  <a:lnTo>
                    <a:pt x="141" y="13"/>
                  </a:lnTo>
                  <a:lnTo>
                    <a:pt x="257" y="34"/>
                  </a:lnTo>
                  <a:lnTo>
                    <a:pt x="377" y="101"/>
                  </a:lnTo>
                  <a:lnTo>
                    <a:pt x="463" y="152"/>
                  </a:lnTo>
                  <a:lnTo>
                    <a:pt x="519" y="224"/>
                  </a:lnTo>
                  <a:lnTo>
                    <a:pt x="545" y="266"/>
                  </a:lnTo>
                  <a:lnTo>
                    <a:pt x="493" y="389"/>
                  </a:lnTo>
                  <a:lnTo>
                    <a:pt x="411" y="464"/>
                  </a:lnTo>
                  <a:lnTo>
                    <a:pt x="313" y="519"/>
                  </a:lnTo>
                  <a:lnTo>
                    <a:pt x="261" y="553"/>
                  </a:lnTo>
                  <a:lnTo>
                    <a:pt x="171" y="569"/>
                  </a:lnTo>
                  <a:lnTo>
                    <a:pt x="167" y="603"/>
                  </a:lnTo>
                  <a:lnTo>
                    <a:pt x="236" y="633"/>
                  </a:lnTo>
                  <a:lnTo>
                    <a:pt x="335" y="659"/>
                  </a:lnTo>
                  <a:lnTo>
                    <a:pt x="428" y="709"/>
                  </a:lnTo>
                  <a:lnTo>
                    <a:pt x="390" y="747"/>
                  </a:lnTo>
                  <a:lnTo>
                    <a:pt x="352" y="760"/>
                  </a:lnTo>
                  <a:lnTo>
                    <a:pt x="296" y="704"/>
                  </a:lnTo>
                  <a:lnTo>
                    <a:pt x="210" y="671"/>
                  </a:lnTo>
                  <a:lnTo>
                    <a:pt x="141" y="646"/>
                  </a:lnTo>
                  <a:lnTo>
                    <a:pt x="141" y="595"/>
                  </a:lnTo>
                  <a:lnTo>
                    <a:pt x="154" y="541"/>
                  </a:lnTo>
                  <a:lnTo>
                    <a:pt x="197" y="519"/>
                  </a:lnTo>
                  <a:lnTo>
                    <a:pt x="335" y="464"/>
                  </a:lnTo>
                  <a:lnTo>
                    <a:pt x="411" y="380"/>
                  </a:lnTo>
                  <a:lnTo>
                    <a:pt x="467" y="292"/>
                  </a:lnTo>
                  <a:lnTo>
                    <a:pt x="454" y="249"/>
                  </a:lnTo>
                  <a:lnTo>
                    <a:pt x="411" y="199"/>
                  </a:lnTo>
                  <a:lnTo>
                    <a:pt x="309" y="127"/>
                  </a:lnTo>
                  <a:lnTo>
                    <a:pt x="184" y="101"/>
                  </a:lnTo>
                  <a:lnTo>
                    <a:pt x="102" y="97"/>
                  </a:lnTo>
                  <a:lnTo>
                    <a:pt x="30" y="97"/>
                  </a:lnTo>
                  <a:lnTo>
                    <a:pt x="0" y="5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58800" y="5867280"/>
              <a:ext cx="525600" cy="974880"/>
            </a:xfrm>
            <a:custGeom>
              <a:avLst/>
              <a:gdLst/>
              <a:ahLst/>
              <a:rect l="l" t="t" r="r" b="b"/>
              <a:pathLst>
                <a:path w="663" h="1228">
                  <a:moveTo>
                    <a:pt x="76" y="0"/>
                  </a:moveTo>
                  <a:lnTo>
                    <a:pt x="17" y="0"/>
                  </a:lnTo>
                  <a:lnTo>
                    <a:pt x="0" y="88"/>
                  </a:lnTo>
                  <a:lnTo>
                    <a:pt x="43" y="140"/>
                  </a:lnTo>
                  <a:lnTo>
                    <a:pt x="180" y="262"/>
                  </a:lnTo>
                  <a:lnTo>
                    <a:pt x="301" y="418"/>
                  </a:lnTo>
                  <a:lnTo>
                    <a:pt x="379" y="579"/>
                  </a:lnTo>
                  <a:lnTo>
                    <a:pt x="390" y="684"/>
                  </a:lnTo>
                  <a:lnTo>
                    <a:pt x="386" y="760"/>
                  </a:lnTo>
                  <a:lnTo>
                    <a:pt x="353" y="933"/>
                  </a:lnTo>
                  <a:lnTo>
                    <a:pt x="309" y="1073"/>
                  </a:lnTo>
                  <a:lnTo>
                    <a:pt x="271" y="1153"/>
                  </a:lnTo>
                  <a:lnTo>
                    <a:pt x="262" y="1204"/>
                  </a:lnTo>
                  <a:lnTo>
                    <a:pt x="301" y="1204"/>
                  </a:lnTo>
                  <a:lnTo>
                    <a:pt x="360" y="1187"/>
                  </a:lnTo>
                  <a:lnTo>
                    <a:pt x="379" y="1191"/>
                  </a:lnTo>
                  <a:lnTo>
                    <a:pt x="503" y="1198"/>
                  </a:lnTo>
                  <a:lnTo>
                    <a:pt x="598" y="1228"/>
                  </a:lnTo>
                  <a:lnTo>
                    <a:pt x="632" y="1211"/>
                  </a:lnTo>
                  <a:lnTo>
                    <a:pt x="663" y="1148"/>
                  </a:lnTo>
                  <a:lnTo>
                    <a:pt x="632" y="1114"/>
                  </a:lnTo>
                  <a:lnTo>
                    <a:pt x="490" y="1110"/>
                  </a:lnTo>
                  <a:lnTo>
                    <a:pt x="390" y="1123"/>
                  </a:lnTo>
                  <a:lnTo>
                    <a:pt x="340" y="1148"/>
                  </a:lnTo>
                  <a:lnTo>
                    <a:pt x="347" y="1089"/>
                  </a:lnTo>
                  <a:lnTo>
                    <a:pt x="399" y="1000"/>
                  </a:lnTo>
                  <a:lnTo>
                    <a:pt x="442" y="861"/>
                  </a:lnTo>
                  <a:lnTo>
                    <a:pt x="477" y="743"/>
                  </a:lnTo>
                  <a:lnTo>
                    <a:pt x="451" y="608"/>
                  </a:lnTo>
                  <a:lnTo>
                    <a:pt x="412" y="464"/>
                  </a:lnTo>
                  <a:lnTo>
                    <a:pt x="334" y="300"/>
                  </a:lnTo>
                  <a:lnTo>
                    <a:pt x="223" y="148"/>
                  </a:lnTo>
                  <a:lnTo>
                    <a:pt x="128" y="3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28680" y="5864400"/>
              <a:ext cx="353880" cy="993600"/>
            </a:xfrm>
            <a:custGeom>
              <a:avLst/>
              <a:gdLst/>
              <a:ahLst/>
              <a:rect l="l" t="t" r="r" b="b"/>
              <a:pathLst>
                <a:path w="447" h="1251">
                  <a:moveTo>
                    <a:pt x="309" y="0"/>
                  </a:moveTo>
                  <a:lnTo>
                    <a:pt x="253" y="118"/>
                  </a:lnTo>
                  <a:lnTo>
                    <a:pt x="214" y="290"/>
                  </a:lnTo>
                  <a:lnTo>
                    <a:pt x="168" y="481"/>
                  </a:lnTo>
                  <a:lnTo>
                    <a:pt x="125" y="674"/>
                  </a:lnTo>
                  <a:lnTo>
                    <a:pt x="125" y="745"/>
                  </a:lnTo>
                  <a:lnTo>
                    <a:pt x="168" y="872"/>
                  </a:lnTo>
                  <a:lnTo>
                    <a:pt x="227" y="940"/>
                  </a:lnTo>
                  <a:lnTo>
                    <a:pt x="283" y="1024"/>
                  </a:lnTo>
                  <a:lnTo>
                    <a:pt x="322" y="1086"/>
                  </a:lnTo>
                  <a:lnTo>
                    <a:pt x="305" y="1116"/>
                  </a:lnTo>
                  <a:lnTo>
                    <a:pt x="207" y="1129"/>
                  </a:lnTo>
                  <a:lnTo>
                    <a:pt x="47" y="1154"/>
                  </a:lnTo>
                  <a:lnTo>
                    <a:pt x="0" y="1193"/>
                  </a:lnTo>
                  <a:lnTo>
                    <a:pt x="39" y="1226"/>
                  </a:lnTo>
                  <a:lnTo>
                    <a:pt x="129" y="1251"/>
                  </a:lnTo>
                  <a:lnTo>
                    <a:pt x="232" y="1200"/>
                  </a:lnTo>
                  <a:lnTo>
                    <a:pt x="309" y="1167"/>
                  </a:lnTo>
                  <a:lnTo>
                    <a:pt x="408" y="1154"/>
                  </a:lnTo>
                  <a:lnTo>
                    <a:pt x="447" y="1142"/>
                  </a:lnTo>
                  <a:lnTo>
                    <a:pt x="434" y="1099"/>
                  </a:lnTo>
                  <a:lnTo>
                    <a:pt x="322" y="990"/>
                  </a:lnTo>
                  <a:lnTo>
                    <a:pt x="257" y="876"/>
                  </a:lnTo>
                  <a:lnTo>
                    <a:pt x="201" y="800"/>
                  </a:lnTo>
                  <a:lnTo>
                    <a:pt x="194" y="725"/>
                  </a:lnTo>
                  <a:lnTo>
                    <a:pt x="220" y="599"/>
                  </a:lnTo>
                  <a:lnTo>
                    <a:pt x="279" y="468"/>
                  </a:lnTo>
                  <a:lnTo>
                    <a:pt x="344" y="245"/>
                  </a:lnTo>
                  <a:lnTo>
                    <a:pt x="400" y="114"/>
                  </a:lnTo>
                  <a:lnTo>
                    <a:pt x="395" y="37"/>
                  </a:lnTo>
                  <a:lnTo>
                    <a:pt x="344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606680" y="4268880"/>
            <a:ext cx="217440" cy="293760"/>
            <a:chOff x="1606680" y="4268880"/>
            <a:chExt cx="217440" cy="293760"/>
          </a:xfrm>
        </p:grpSpPr>
        <p:sp>
          <p:nvSpPr>
            <p:cNvPr id="794" name=""/>
            <p:cNvSpPr/>
            <p:nvPr/>
          </p:nvSpPr>
          <p:spPr>
            <a:xfrm>
              <a:off x="1649520" y="4268880"/>
              <a:ext cx="174600" cy="204840"/>
            </a:xfrm>
            <a:custGeom>
              <a:avLst/>
              <a:gdLst/>
              <a:ahLst/>
              <a:rect l="l" t="t" r="r" b="b"/>
              <a:pathLst>
                <a:path w="220" h="256">
                  <a:moveTo>
                    <a:pt x="26" y="11"/>
                  </a:moveTo>
                  <a:lnTo>
                    <a:pt x="86" y="0"/>
                  </a:lnTo>
                  <a:lnTo>
                    <a:pt x="143" y="3"/>
                  </a:lnTo>
                  <a:lnTo>
                    <a:pt x="195" y="28"/>
                  </a:lnTo>
                  <a:lnTo>
                    <a:pt x="220" y="75"/>
                  </a:lnTo>
                  <a:lnTo>
                    <a:pt x="220" y="112"/>
                  </a:lnTo>
                  <a:lnTo>
                    <a:pt x="195" y="163"/>
                  </a:lnTo>
                  <a:lnTo>
                    <a:pt x="150" y="193"/>
                  </a:lnTo>
                  <a:lnTo>
                    <a:pt x="86" y="193"/>
                  </a:lnTo>
                  <a:lnTo>
                    <a:pt x="47" y="217"/>
                  </a:lnTo>
                  <a:lnTo>
                    <a:pt x="34" y="256"/>
                  </a:lnTo>
                  <a:lnTo>
                    <a:pt x="0" y="243"/>
                  </a:lnTo>
                  <a:lnTo>
                    <a:pt x="13" y="193"/>
                  </a:lnTo>
                  <a:lnTo>
                    <a:pt x="60" y="163"/>
                  </a:lnTo>
                  <a:lnTo>
                    <a:pt x="137" y="155"/>
                  </a:lnTo>
                  <a:lnTo>
                    <a:pt x="169" y="125"/>
                  </a:lnTo>
                  <a:lnTo>
                    <a:pt x="176" y="79"/>
                  </a:lnTo>
                  <a:lnTo>
                    <a:pt x="143" y="37"/>
                  </a:lnTo>
                  <a:lnTo>
                    <a:pt x="91" y="37"/>
                  </a:lnTo>
                  <a:lnTo>
                    <a:pt x="34" y="50"/>
                  </a:lnTo>
                  <a:lnTo>
                    <a:pt x="13" y="37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06680" y="4506840"/>
              <a:ext cx="55440" cy="5580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68" y="4"/>
                  </a:moveTo>
                  <a:lnTo>
                    <a:pt x="33" y="0"/>
                  </a:lnTo>
                  <a:lnTo>
                    <a:pt x="10" y="26"/>
                  </a:lnTo>
                  <a:lnTo>
                    <a:pt x="0" y="66"/>
                  </a:lnTo>
                  <a:lnTo>
                    <a:pt x="33" y="70"/>
                  </a:lnTo>
                  <a:lnTo>
                    <a:pt x="62" y="52"/>
                  </a:lnTo>
                  <a:lnTo>
                    <a:pt x="68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6" name="" descr=""/>
          <p:cNvPicPr/>
          <p:nvPr/>
        </p:nvPicPr>
        <p:blipFill>
          <a:blip r:embed="rId8"/>
          <a:stretch/>
        </p:blipFill>
        <p:spPr>
          <a:xfrm>
            <a:off x="533520" y="304920"/>
            <a:ext cx="1574640" cy="152388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9"/>
          <a:stretch/>
        </p:blipFill>
        <p:spPr>
          <a:xfrm>
            <a:off x="6705720" y="2590920"/>
            <a:ext cx="157464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0"/>
                            </p:stCondLst>
                            <p:childTnLst>
                              <p:par>
                                <p:cTn id="6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7" nodeType="afterEffect" fill="hold" presetClass="entr" presetID="19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990720" y="246852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今天的学习，说说轴对称与轴对称图形的区别和联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5943600" y="3505320"/>
            <a:ext cx="2346480" cy="247464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 txBox="1"/>
          <p:nvPr/>
        </p:nvSpPr>
        <p:spPr>
          <a:xfrm>
            <a:off x="1447920" y="91440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请你谈一谈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03" name=""/>
          <p:cNvSpPr/>
          <p:nvPr/>
        </p:nvSpPr>
        <p:spPr>
          <a:xfrm>
            <a:off x="2057400" y="5562720"/>
            <a:ext cx="20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172200" y="472428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幻灯片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5880" y="52578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幻灯片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380880" y="3048120"/>
            <a:ext cx="8458200" cy="3257280"/>
            <a:chOff x="380880" y="3048120"/>
            <a:chExt cx="8458200" cy="32572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457200" y="3124080"/>
              <a:ext cx="18288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139860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4876920" y="3124080"/>
              <a:ext cx="160020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2819520" y="5029200"/>
              <a:ext cx="160020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7086600" y="3048120"/>
              <a:ext cx="1752480" cy="13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380880" y="5029200"/>
              <a:ext cx="198144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4876920" y="5105520"/>
              <a:ext cx="1600200" cy="11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7086600" y="5048280"/>
              <a:ext cx="1676520" cy="12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0" y="0"/>
            <a:ext cx="8991720" cy="30481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面对生活中这些图片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请你谈谈你的感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57200"/>
            <a:ext cx="762120" cy="609480"/>
          </a:xfrm>
          <a:custGeom>
            <a:avLst/>
            <a:gdLst>
              <a:gd name="textAreaLeft" fmla="*/ 313920 w 762120"/>
              <a:gd name="textAreaRight" fmla="*/ 448200 w 76212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cc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3880" y="11430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探索新知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0"/>
            <a:ext cx="1067040" cy="3200400"/>
          </a:xfrm>
          <a:prstGeom prst="cloudCallout">
            <a:avLst>
              <a:gd name="adj1" fmla="val -341962"/>
              <a:gd name="adj2" fmla="val 21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</a:rPr>
              <a:t>轴对称图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1981080"/>
            <a:ext cx="7848720" cy="4632480"/>
            <a:chOff x="0" y="1981080"/>
            <a:chExt cx="7848720" cy="46324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0" y="1981080"/>
              <a:ext cx="7848720" cy="46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28600" y="2057400"/>
              <a:ext cx="57913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宋体"/>
                </a:rPr>
                <a:t>观察下面的图形有什么共同的特征？</a:t>
              </a:r>
              <a:endPara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990720" y="2743200"/>
            <a:ext cx="0" cy="2286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819520"/>
            <a:ext cx="0" cy="23619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00600" y="2819520"/>
            <a:ext cx="0" cy="2361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2743200"/>
            <a:ext cx="0" cy="23623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952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请你想一想：将上图中的每一个图形沿某条直线对折，直线两旁的部分能完全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重合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6248520"/>
            <a:ext cx="7315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6480">
                  <a:solidFill>
                    <a:srgbClr val="0066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我们能不能给具有这样特征的一个图形起一个名称呢？</a:t>
            </a:r>
            <a:endParaRPr b="1" lang="en-US" sz="2400" spc="1" strike="noStrike">
              <a:ln w="6480">
                <a:solidFill>
                  <a:srgbClr val="0066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762120" y="1981080"/>
            <a:ext cx="80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如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Verdana"/>
              </a:rPr>
              <a:t>一个图形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沿某条直线对折后，直线两旁的部分能够完全重合，那么这个图形叫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轴对称图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9320" y="76212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那我们就能得到第一个结论：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406680" y="457200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这条直线叫这个图形的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对称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5791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56386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57150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幻灯片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371600" y="9907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6668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能找出右面五角星的对称轴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0" y="2209680"/>
            <a:ext cx="3657600" cy="2967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952880" y="3276720"/>
            <a:ext cx="2590920" cy="761760"/>
          </a:xfrm>
          <a:prstGeom prst="line">
            <a:avLst/>
          </a:prstGeom>
          <a:ln w="507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666520"/>
            <a:ext cx="1676520" cy="2057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666880"/>
            <a:ext cx="1600200" cy="213372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05520" y="3276720"/>
            <a:ext cx="2590560" cy="7617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2438280"/>
            <a:ext cx="0" cy="236232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0-09T01:35:54Z</dcterms:modified>
  <cp:revision>95</cp:revision>
  <dc:subject/>
  <dc:title/>
</cp:coreProperties>
</file>